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535-233C-4DC4-9DEF-82A90F95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FCF-95B8-411E-96F0-37A9B8F0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089-34C3-4C56-A5EC-0E472E4D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761-A017-4770-8A1A-2D36EC79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183B-480D-4A51-B085-24E8D6BC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338C-F7D1-4208-95A7-18E83951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6416-DB7C-4016-AA64-58806304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D663-49EF-4B41-A134-B0908F10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804C-90EB-4048-85AD-BF44862E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5A3F-2AA7-4891-98D3-2BE4B8CC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79D5-DCE3-4FDC-9F14-3C4BDE44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DDB-F487-412C-A449-0DB1AB5D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CB42-461A-467F-8BE3-7E3FBDCA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C83A-713F-4460-8620-CD76ACE5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1AF7-34FF-40BE-BC2F-38E8B989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E891-429F-41E0-BEDD-F629975A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53B0-0031-4616-A43C-25512445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27C-570C-4510-BFD5-4476CF59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6A8-984D-41EC-BE60-92D831C1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E08-D846-4C61-AD4B-7C21EBAE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6AF-B796-40D6-857E-B5DA3A88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91B-DD1B-41A7-9AAB-294C1B69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8ACD-F8C7-4121-AE20-67044BD5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03E-6B05-436F-93EA-17C446E9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8CFB-2AEB-4627-85C6-6F9843BE264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A3A1-8A23-4030-9CA1-6A2039C529A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9280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ЕДЕРАЛЬНАЯ СЛУЖБА ПО НАДЗОРУ В СФЕРЕ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ДРАВООХРАНЕНИЯ И СОЦИАЛЬНОГО РАЗВИТ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7543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ahoma"/>
              </a:rPr>
              <a:t>Государственный контроль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ahoma"/>
              </a:rPr>
              <a:t>в сфере обращения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ahoma"/>
              </a:rPr>
              <a:t>лекарственных средств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Начальник отдела контроля за фармацевтической деятельностью Управления Росздравнадзора по Р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З. З. Хасан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93672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Привлечены к административной ответственност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537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«Сан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«Биоте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«Юнит»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«Квантор-Фарм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«Парус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УП «Медснаб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О «Медицинская евроазиатская компания «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RAS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«Фарм плюс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«Медфарм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«Андыз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П Шайдуллин И.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П Гараев Р.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44800" y="1844640"/>
            <a:ext cx="439884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П Давлетханова Ф.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«КВАНТОР-ФАРМ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«Партнер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«Биос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«Агидель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«Титул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«Красота и здоровь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ОО «ХОРРИЯТ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УЗ «Высокогорская ЦРБ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УЗ «Городская клиническая больница № 9» г. Каза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УЗ «Кайбицкая ЦРБ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 flipV="1" rot="10800000">
            <a:off x="1042560" y="62157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олжностные лица аптек №№ 139, 31, 235, 49 ГУП «ТТМФ», ООО «Вита-фарм», ООО «Дельта», ООО «Ривьер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2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Этапы государственного контроля лекарственных средств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276640"/>
            <a:ext cx="754380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а стадии клинических исследов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едварительный контр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ыборочный контр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вторный выборочный контр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нтроль в процессе обра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ерриториальным Управлением принят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18 решений о приостановлении обращения недоброкачественных серий Л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1 решение - по отношению к ЛС Амоксиклав, порошок для приготовления пероральной суспензии, производства Лек Д.Д., Слов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2007 году  Управлением Росздравнадзора по РТ выдано 65 разрешений на дальнейшую реализацию на территории Республики Татарстан лекарственных  средст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60280"/>
            <a:ext cx="7826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ганизовано проведение отбора образцов Л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2 серий по 57 наименования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 рамках предварительного государственного контроля 13 наименований (21 сер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 рамках выборочного государственного контроля 20 наименований (25 сери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 рамках повторного выборочного контроля 24 наименования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(36 сери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Выявлено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и изъято из обращения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8 серий забракованных ЛС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ahoma"/>
              </a:rPr>
              <a:t>Стрепсилс с лимоном и травами-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2 серии</a:t>
            </a:r>
            <a:r>
              <a:rPr b="1" i="1" lang="ru-RU" sz="3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ahoma"/>
              </a:rPr>
              <a:t>Суприма – Бронх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ahoma"/>
              </a:rPr>
              <a:t>Сульфацил натрия р-р 20%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ahoma"/>
              </a:rPr>
              <a:t>Предуктал МВ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ahoma"/>
              </a:rPr>
              <a:t>Бальзам «Золотая звезда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ahoma"/>
              </a:rPr>
              <a:t>Витрум Бьюти эли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ahoma"/>
              </a:rPr>
              <a:t>Трависил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2349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По вопросам организации отпуска ЛС по федеральной программе проведены проверки 38 аптечных учреждений,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в 8 – с участием представителей прокуратуры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8101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Структура обращений граждан в территориальный орган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560" y="220500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73 (91,25%)  - вопросы бесплатного лекарственного обеспеч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 (2,5%) -  вопросы сомнения в качестве лекарственных средств  Стугерон и Цефазолина натриевая с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 (1,25%)  -  качество БА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 (2,5%) - осуществление безлицензионной фармацевтическ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 (2,5%) - вопросы ценообразования на лекарственные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692280"/>
            <a:ext cx="7921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оответствии с Федеральным законом № 258 – ФЗ на территориальные Управления Росздравнадзора возложены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ункци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контро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и надзор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за полнотой и качеством осуществлен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ами государственной власти субъектов РФ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переданных полномочий с правом направления предписаний об устранении выявленных нарушений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привлечен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 ответственности должностных лиц, исполняющих обязанности по осуществлению переданных полномочий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eaeaea"/>
                </a:solidFill>
                <a:latin typeface="Tahoma"/>
              </a:rPr>
              <a:t>Направления деятельности  Управления Росздравнадзора</a:t>
            </a:r>
            <a:br>
              <a:rPr sz="3000"/>
            </a:br>
            <a:r>
              <a:rPr b="1" i="1" lang="ru-RU" sz="3000" spc="-1" strike="noStrike">
                <a:solidFill>
                  <a:srgbClr val="eaeaea"/>
                </a:solidFill>
                <a:latin typeface="Tahoma"/>
              </a:rPr>
              <a:t>по РТ на фармрынке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604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троль за полнотой и качеством осуществления переданных МЗ РТ полномочий по лицензированию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троль за полнотой и качеством осуществления переданных МЗ РТ полномочий по организации обеспечения отдельных категорий граждан необходимыми ЛС, ИМН, специализированными продуктами лечебного пита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ицензирование фармацевтической деятельности аптек федеральных организаций здравоохранения и оптовой торговли лекарственных сред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ицензирование деятельности, связанной с оборотом НС и ПВ Списков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аптек федеральных организаций здравоохранения и оптовой торговли лекарственных сред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троль за соблюдением лицензионных требований и услов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троль за реализацией программы ОНЛ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енный контроль  за производством, изготовлением качеством, эффективностью, безопасностью, оборотом и порядком использования ЛС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троль за производством, оборотом и порядком использования изделий медицинского назна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нтроль за качеством подготовки специалистов, получивших образование в иностранных государств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ыдано лицензий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осуществление фарм. деятельности - 238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осуществление деятельности, связанной с оборотом наркотических средств и психотропных веществ, внесенных в Списк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4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560" y="83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2240" y="1114200"/>
            <a:ext cx="7461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eaea"/>
                </a:solidFill>
                <a:latin typeface="Bodoni MT Black"/>
              </a:rPr>
              <a:t>Структура фармацевтического рынка Республики Татарстан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-252360" y="1628640"/>
          <a:ext cx="920592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1628640"/>
                    <a:ext cx="920592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459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Структура розничного фармацевтического рынка РТ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-109440" y="765000"/>
          <a:ext cx="92534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9440" y="765000"/>
                    <a:ext cx="92534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1640" y="981000"/>
            <a:ext cx="75610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ahoma"/>
              </a:rPr>
              <a:t>Направления развития розничного звена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229600" cy="37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асширение местных сет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егиональная экспанс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ертикальная интеграция фарм. организац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труктура розничного звена в Р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8000" y="765000"/>
          <a:ext cx="8807400" cy="59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880740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179280" y="40464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Проведено   проверок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5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фармацевтическая деятельность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едлицензионных  – 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облюдения ЛТ и У  - 1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о выявлению иностранцев – 4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деятельность, связанная с оборотом НС и П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едлицензионных - 16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облюдения ЛТиУ–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онтрольные мероприят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7756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лановые – 15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неплановые - 9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1048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Объем контрольных мероприятий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1716120"/>
          <a:ext cx="84978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16120"/>
                    <a:ext cx="84978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5:01:30Z</dcterms:created>
  <dc:creator>FuckYouBill</dc:creator>
  <dc:description/>
  <dc:language>en-US</dc:language>
  <cp:lastModifiedBy>Гость</cp:lastModifiedBy>
  <dcterms:modified xsi:type="dcterms:W3CDTF">2008-03-19T12:25:59Z</dcterms:modified>
  <cp:revision>21</cp:revision>
  <dc:subject/>
  <dc:title>Структура фармацевтического рынка Республики Татарстан </dc:title>
</cp:coreProperties>
</file>