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D53-0033-4042-A632-FB7B8558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69F-D7EC-4076-A456-AF253168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1FA-C4C8-4D5C-A6A7-150DDBDD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CFD-9122-4D6F-AAC3-EE998F84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4ADA-D8C7-44C3-AC1B-BE1021EE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A187-4DBD-496A-989E-50194614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FC29-5A30-4384-99A9-6A04E730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57A1-F786-4696-8C90-E0665E23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9395-FE96-4606-8EFA-B15A679E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9B2B-F8DF-4FC2-93C7-07FF71E0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9B32-7EB0-4EE5-A575-9B03D670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277-824B-425B-8124-0FD61FFB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7113-C56B-41DF-8292-41DD7CF0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D127-1D0E-40B2-88B1-57B19C70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5500-EA17-4385-A14F-EE90C5CD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62D0-285F-4AE7-83F7-68EAB994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F5CD-2C96-4B1F-80F9-A5317F63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C6D-1E1D-4581-B4B0-20BB40D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849-C813-401B-9632-23261077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0E5-711E-4F9C-B9A1-A1F2E7E7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669-FC74-49A7-BD83-EFEB19F1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ABF-5BFE-4842-8B1C-C24B3770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41D-35FF-46E4-9E2F-751BC435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0FB-A04F-4443-A809-DF2E8488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C4DA-C20B-4B13-AF7A-BC5143D5C84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54A0-0DD4-434C-A171-EA747F1B55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О реализации антикоррупционной политики в здравоохранении Республики Татарстан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640" y="4076640"/>
            <a:ext cx="7848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Ю. Вафин 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вый замест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инистра здравоохранения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Казань, 2 июл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08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99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3b812f"/>
                </a:solidFill>
                <a:latin typeface="Arial"/>
              </a:rPr>
              <a:t>Пациент имеет право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каз от медицинского вмеш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чение информации о своих правах и обязанностях и состоянии своего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чение медицинских и и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мещение ущерба в случае причинения вреда здоров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пуск адвоката или иного законного представителя для защиты его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пуск священнослужителя, а в больничном учреждении на предоставление условий для отправления религиозных обряд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79800" y="6416640"/>
            <a:ext cx="62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33"/>
                </a:solidFill>
                <a:latin typeface="Arial"/>
              </a:rPr>
              <a:t>Статья 30 Основ законодательства об охране здоровья граждан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C9C-5BBB-49CF-9842-5FF6EFCCE4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Что нужно сделать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вномерно распределить потоки госпитализируемых по дням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дрить в учреждениях листы ожидания на получение ВТМП по приорите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овать работу Диспетчерского центра МЗ 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693-3B71-4521-ABF4-DA72F135D6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0"/>
          <p:cNvSpPr/>
          <p:nvPr/>
        </p:nvSpPr>
        <p:spPr>
          <a:xfrm>
            <a:off x="179280" y="243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0" y="357120"/>
            <a:ext cx="9144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Arial"/>
              </a:rPr>
              <a:t>Диспетчер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812f"/>
                </a:solidFill>
                <a:latin typeface="Arial"/>
              </a:rPr>
              <a:t>Организация процесса л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Группа 266"/>
          <p:cNvGrpSpPr/>
          <p:nvPr/>
        </p:nvGrpSpPr>
        <p:grpSpPr>
          <a:xfrm>
            <a:off x="280800" y="4948200"/>
            <a:ext cx="1152720" cy="973080"/>
            <a:chOff x="280800" y="4948200"/>
            <a:chExt cx="1152720" cy="973080"/>
          </a:xfrm>
        </p:grpSpPr>
        <p:sp>
          <p:nvSpPr>
            <p:cNvPr id="151" name="Скругленный прямоугольник 39"/>
            <p:cNvSpPr/>
            <p:nvPr/>
          </p:nvSpPr>
          <p:spPr>
            <a:xfrm>
              <a:off x="290880" y="4948200"/>
              <a:ext cx="114264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П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ервич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зве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Группа 62"/>
            <p:cNvGrpSpPr/>
            <p:nvPr/>
          </p:nvGrpSpPr>
          <p:grpSpPr>
            <a:xfrm>
              <a:off x="280800" y="5203440"/>
              <a:ext cx="319320" cy="717840"/>
              <a:chOff x="280800" y="5203440"/>
              <a:chExt cx="319320" cy="717840"/>
            </a:xfrm>
          </p:grpSpPr>
          <p:sp>
            <p:nvSpPr>
              <p:cNvPr id="153" name="Freeform 8"/>
              <p:cNvSpPr/>
              <p:nvPr/>
            </p:nvSpPr>
            <p:spPr>
              <a:xfrm flipH="1">
                <a:off x="280440" y="5340240"/>
                <a:ext cx="319320" cy="58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9"/>
              <p:cNvSpPr/>
              <p:nvPr/>
            </p:nvSpPr>
            <p:spPr>
              <a:xfrm flipH="1">
                <a:off x="280440" y="5340240"/>
                <a:ext cx="319320" cy="5810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 flipH="1">
                <a:off x="375120" y="5203440"/>
                <a:ext cx="127080" cy="133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 flipH="1">
                <a:off x="288720" y="5473800"/>
                <a:ext cx="125280" cy="44568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 flipH="1">
                <a:off x="288720" y="5473800"/>
                <a:ext cx="125280" cy="44568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 flipH="1">
                <a:off x="282960" y="5452200"/>
                <a:ext cx="137880" cy="39240"/>
              </a:xfrm>
              <a:prstGeom prst="pie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 flipH="1">
                <a:off x="282960" y="5452200"/>
                <a:ext cx="137880" cy="392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5"/>
              <p:cNvSpPr/>
              <p:nvPr/>
            </p:nvSpPr>
            <p:spPr>
              <a:xfrm flipH="1">
                <a:off x="288720" y="5431680"/>
                <a:ext cx="95760" cy="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"/>
              <p:cNvSpPr/>
              <p:nvPr/>
            </p:nvSpPr>
            <p:spPr>
              <a:xfrm flipH="1">
                <a:off x="288000" y="5437800"/>
                <a:ext cx="96480" cy="590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7"/>
              <p:cNvSpPr/>
              <p:nvPr/>
            </p:nvSpPr>
            <p:spPr>
              <a:xfrm flipH="1">
                <a:off x="300960" y="5532840"/>
                <a:ext cx="101880" cy="684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8"/>
              <p:cNvSpPr/>
              <p:nvPr/>
            </p:nvSpPr>
            <p:spPr>
              <a:xfrm flipH="1">
                <a:off x="300960" y="5532840"/>
                <a:ext cx="101880" cy="68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Скругленный прямоугольник 44"/>
          <p:cNvSpPr/>
          <p:nvPr/>
        </p:nvSpPr>
        <p:spPr>
          <a:xfrm>
            <a:off x="2322360" y="3722760"/>
            <a:ext cx="174312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Стациона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Группа 85"/>
          <p:cNvGrpSpPr/>
          <p:nvPr/>
        </p:nvGrpSpPr>
        <p:grpSpPr>
          <a:xfrm>
            <a:off x="2367000" y="4332240"/>
            <a:ext cx="598320" cy="325440"/>
            <a:chOff x="2367000" y="4332240"/>
            <a:chExt cx="598320" cy="325440"/>
          </a:xfrm>
        </p:grpSpPr>
        <p:sp>
          <p:nvSpPr>
            <p:cNvPr id="166" name="Полилиния 86"/>
            <p:cNvSpPr/>
            <p:nvPr/>
          </p:nvSpPr>
          <p:spPr>
            <a:xfrm>
              <a:off x="2585160" y="4398840"/>
              <a:ext cx="352440" cy="21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5"/>
            <p:cNvSpPr/>
            <p:nvPr/>
          </p:nvSpPr>
          <p:spPr>
            <a:xfrm>
              <a:off x="2369880" y="4358520"/>
              <a:ext cx="216720" cy="2750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6"/>
            <p:cNvSpPr/>
            <p:nvPr/>
          </p:nvSpPr>
          <p:spPr>
            <a:xfrm>
              <a:off x="2748600" y="4332240"/>
              <a:ext cx="216720" cy="27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7"/>
            <p:cNvSpPr/>
            <p:nvPr/>
          </p:nvSpPr>
          <p:spPr>
            <a:xfrm>
              <a:off x="2748600" y="4332240"/>
              <a:ext cx="216720" cy="27612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8"/>
            <p:cNvSpPr/>
            <p:nvPr/>
          </p:nvSpPr>
          <p:spPr>
            <a:xfrm>
              <a:off x="2584800" y="4454640"/>
              <a:ext cx="334800" cy="464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9"/>
            <p:cNvSpPr/>
            <p:nvPr/>
          </p:nvSpPr>
          <p:spPr>
            <a:xfrm flipH="1" flipV="1">
              <a:off x="2903760" y="4597920"/>
              <a:ext cx="25200" cy="900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0"/>
            <p:cNvSpPr/>
            <p:nvPr/>
          </p:nvSpPr>
          <p:spPr>
            <a:xfrm>
              <a:off x="2370960" y="4357440"/>
              <a:ext cx="216720" cy="27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1"/>
            <p:cNvSpPr/>
            <p:nvPr/>
          </p:nvSpPr>
          <p:spPr>
            <a:xfrm>
              <a:off x="2370960" y="4357440"/>
              <a:ext cx="216720" cy="27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2"/>
            <p:cNvSpPr/>
            <p:nvPr/>
          </p:nvSpPr>
          <p:spPr>
            <a:xfrm>
              <a:off x="2590200" y="4398840"/>
              <a:ext cx="343440" cy="554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2748600" y="4338000"/>
              <a:ext cx="1800" cy="6444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4"/>
            <p:cNvSpPr/>
            <p:nvPr/>
          </p:nvSpPr>
          <p:spPr>
            <a:xfrm>
              <a:off x="2367000" y="4361400"/>
              <a:ext cx="182880" cy="27216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5"/>
            <p:cNvSpPr/>
            <p:nvPr/>
          </p:nvSpPr>
          <p:spPr>
            <a:xfrm>
              <a:off x="2583720" y="4399920"/>
              <a:ext cx="348480" cy="21528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6"/>
            <p:cNvSpPr/>
            <p:nvPr/>
          </p:nvSpPr>
          <p:spPr>
            <a:xfrm>
              <a:off x="2642400" y="4422240"/>
              <a:ext cx="117720" cy="5328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7"/>
            <p:cNvSpPr/>
            <p:nvPr/>
          </p:nvSpPr>
          <p:spPr>
            <a:xfrm>
              <a:off x="2735640" y="4404960"/>
              <a:ext cx="155160" cy="1940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8"/>
            <p:cNvSpPr/>
            <p:nvPr/>
          </p:nvSpPr>
          <p:spPr>
            <a:xfrm>
              <a:off x="2767680" y="4364280"/>
              <a:ext cx="154080" cy="80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9"/>
            <p:cNvSpPr/>
            <p:nvPr/>
          </p:nvSpPr>
          <p:spPr>
            <a:xfrm>
              <a:off x="2679480" y="4597200"/>
              <a:ext cx="279360" cy="60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0"/>
            <p:cNvSpPr/>
            <p:nvPr/>
          </p:nvSpPr>
          <p:spPr>
            <a:xfrm>
              <a:off x="2849760" y="4621320"/>
              <a:ext cx="107280" cy="3312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" name="Прямая со стрелкой 160"/>
          <p:cNvCxnSpPr>
            <a:stCxn id="184" idx="3"/>
            <a:endCxn id="185" idx="1"/>
          </p:cNvCxnSpPr>
          <p:nvPr/>
        </p:nvCxnSpPr>
        <p:spPr>
          <a:xfrm>
            <a:off x="1433160" y="2800080"/>
            <a:ext cx="840600" cy="2088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cxnSp>
        <p:nvCxnSpPr>
          <p:cNvPr id="186" name="Прямая со стрелкой 163"/>
          <p:cNvCxnSpPr>
            <a:stCxn id="151" idx="3"/>
            <a:endCxn id="187" idx="1"/>
          </p:cNvCxnSpPr>
          <p:nvPr/>
        </p:nvCxnSpPr>
        <p:spPr>
          <a:xfrm>
            <a:off x="1433160" y="5233680"/>
            <a:ext cx="919800" cy="2088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cxnSp>
        <p:nvCxnSpPr>
          <p:cNvPr id="188" name="Прямая со стрелкой 172"/>
          <p:cNvCxnSpPr>
            <a:stCxn id="189" idx="3"/>
            <a:endCxn id="164" idx="1"/>
          </p:cNvCxnSpPr>
          <p:nvPr/>
        </p:nvCxnSpPr>
        <p:spPr>
          <a:xfrm>
            <a:off x="1433160" y="4059000"/>
            <a:ext cx="889560" cy="2088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cxnSp>
        <p:nvCxnSpPr>
          <p:cNvPr id="190" name="Прямая со стрелкой 175"/>
          <p:cNvCxnSpPr>
            <a:stCxn id="189" idx="3"/>
            <a:endCxn id="185" idx="1"/>
          </p:cNvCxnSpPr>
          <p:nvPr/>
        </p:nvCxnSpPr>
        <p:spPr>
          <a:xfrm flipV="1">
            <a:off x="1433160" y="2820600"/>
            <a:ext cx="840600" cy="123912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cxnSp>
        <p:nvCxnSpPr>
          <p:cNvPr id="191" name="Прямая со стрелкой 184"/>
          <p:cNvCxnSpPr>
            <a:stCxn id="151" idx="3"/>
            <a:endCxn id="164" idx="1"/>
          </p:cNvCxnSpPr>
          <p:nvPr/>
        </p:nvCxnSpPr>
        <p:spPr>
          <a:xfrm flipV="1">
            <a:off x="1433160" y="4079520"/>
            <a:ext cx="889560" cy="115488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cxnSp>
        <p:nvCxnSpPr>
          <p:cNvPr id="192" name="Прямая со стрелкой 187"/>
          <p:cNvCxnSpPr>
            <a:stCxn id="151" idx="3"/>
            <a:endCxn id="185" idx="1"/>
          </p:cNvCxnSpPr>
          <p:nvPr/>
        </p:nvCxnSpPr>
        <p:spPr>
          <a:xfrm flipV="1">
            <a:off x="1433160" y="2820240"/>
            <a:ext cx="840600" cy="241380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sp>
        <p:nvSpPr>
          <p:cNvPr id="187" name="Скругленный прямоугольник 45"/>
          <p:cNvSpPr/>
          <p:nvPr/>
        </p:nvSpPr>
        <p:spPr>
          <a:xfrm>
            <a:off x="2352600" y="4968720"/>
            <a:ext cx="17128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Сана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6" descr="E:\Новая папка (2)\derevo2.wmf"/>
          <p:cNvPicPr/>
          <p:nvPr/>
        </p:nvPicPr>
        <p:blipFill>
          <a:blip r:embed="rId1"/>
          <a:stretch/>
        </p:blipFill>
        <p:spPr>
          <a:xfrm>
            <a:off x="2347920" y="5203800"/>
            <a:ext cx="498600" cy="547560"/>
          </a:xfrm>
          <a:prstGeom prst="rect">
            <a:avLst/>
          </a:prstGeom>
          <a:ln w="0">
            <a:noFill/>
          </a:ln>
        </p:spPr>
      </p:pic>
      <p:sp>
        <p:nvSpPr>
          <p:cNvPr id="185" name="Скругленный прямоугольник 42"/>
          <p:cNvSpPr/>
          <p:nvPr/>
        </p:nvSpPr>
        <p:spPr>
          <a:xfrm>
            <a:off x="2273400" y="2463840"/>
            <a:ext cx="1779480" cy="71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Высокотехнологич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медицинск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цент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7" descr="E:\Новая папка (2)\Иконки.wmf"/>
          <p:cNvPicPr/>
          <p:nvPr/>
        </p:nvPicPr>
        <p:blipFill>
          <a:blip r:embed="rId2"/>
          <a:stretch/>
        </p:blipFill>
        <p:spPr>
          <a:xfrm>
            <a:off x="2273400" y="2843280"/>
            <a:ext cx="604800" cy="503280"/>
          </a:xfrm>
          <a:prstGeom prst="rect">
            <a:avLst/>
          </a:prstGeom>
          <a:ln w="0">
            <a:noFill/>
          </a:ln>
        </p:spPr>
      </p:pic>
      <p:grpSp>
        <p:nvGrpSpPr>
          <p:cNvPr id="195" name="Группа 267"/>
          <p:cNvGrpSpPr/>
          <p:nvPr/>
        </p:nvGrpSpPr>
        <p:grpSpPr>
          <a:xfrm>
            <a:off x="280800" y="3773520"/>
            <a:ext cx="1152720" cy="973080"/>
            <a:chOff x="280800" y="3773520"/>
            <a:chExt cx="1152720" cy="973080"/>
          </a:xfrm>
        </p:grpSpPr>
        <p:sp>
          <p:nvSpPr>
            <p:cNvPr id="189" name="Скругленный прямоугольник 268"/>
            <p:cNvSpPr/>
            <p:nvPr/>
          </p:nvSpPr>
          <p:spPr>
            <a:xfrm>
              <a:off x="290880" y="3773520"/>
              <a:ext cx="114264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П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ервич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зве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Группа 269"/>
            <p:cNvGrpSpPr/>
            <p:nvPr/>
          </p:nvGrpSpPr>
          <p:grpSpPr>
            <a:xfrm>
              <a:off x="280800" y="4028760"/>
              <a:ext cx="319320" cy="717840"/>
              <a:chOff x="280800" y="4028760"/>
              <a:chExt cx="319320" cy="717840"/>
            </a:xfrm>
          </p:grpSpPr>
          <p:sp>
            <p:nvSpPr>
              <p:cNvPr id="197" name="Freeform 8"/>
              <p:cNvSpPr/>
              <p:nvPr/>
            </p:nvSpPr>
            <p:spPr>
              <a:xfrm flipH="1">
                <a:off x="280440" y="4165560"/>
                <a:ext cx="319320" cy="58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9"/>
              <p:cNvSpPr/>
              <p:nvPr/>
            </p:nvSpPr>
            <p:spPr>
              <a:xfrm flipH="1">
                <a:off x="280440" y="4165560"/>
                <a:ext cx="319320" cy="5810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0"/>
              <p:cNvSpPr/>
              <p:nvPr/>
            </p:nvSpPr>
            <p:spPr>
              <a:xfrm flipH="1">
                <a:off x="375120" y="4028760"/>
                <a:ext cx="127080" cy="133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1"/>
              <p:cNvSpPr/>
              <p:nvPr/>
            </p:nvSpPr>
            <p:spPr>
              <a:xfrm flipH="1">
                <a:off x="288720" y="4299120"/>
                <a:ext cx="125280" cy="44568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"/>
              <p:cNvSpPr/>
              <p:nvPr/>
            </p:nvSpPr>
            <p:spPr>
              <a:xfrm flipH="1">
                <a:off x="288720" y="4299120"/>
                <a:ext cx="125280" cy="44568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3"/>
              <p:cNvSpPr/>
              <p:nvPr/>
            </p:nvSpPr>
            <p:spPr>
              <a:xfrm flipH="1">
                <a:off x="282960" y="4277520"/>
                <a:ext cx="137880" cy="39240"/>
              </a:xfrm>
              <a:prstGeom prst="pie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"/>
              <p:cNvSpPr/>
              <p:nvPr/>
            </p:nvSpPr>
            <p:spPr>
              <a:xfrm flipH="1">
                <a:off x="282960" y="4277520"/>
                <a:ext cx="137880" cy="392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"/>
              <p:cNvSpPr/>
              <p:nvPr/>
            </p:nvSpPr>
            <p:spPr>
              <a:xfrm flipH="1">
                <a:off x="288720" y="4257000"/>
                <a:ext cx="95760" cy="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"/>
              <p:cNvSpPr/>
              <p:nvPr/>
            </p:nvSpPr>
            <p:spPr>
              <a:xfrm flipH="1">
                <a:off x="288000" y="4263120"/>
                <a:ext cx="96480" cy="590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"/>
              <p:cNvSpPr/>
              <p:nvPr/>
            </p:nvSpPr>
            <p:spPr>
              <a:xfrm flipH="1">
                <a:off x="300960" y="4358160"/>
                <a:ext cx="101880" cy="684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8"/>
              <p:cNvSpPr/>
              <p:nvPr/>
            </p:nvSpPr>
            <p:spPr>
              <a:xfrm flipH="1">
                <a:off x="300960" y="4358160"/>
                <a:ext cx="101880" cy="68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Группа 281"/>
          <p:cNvGrpSpPr/>
          <p:nvPr/>
        </p:nvGrpSpPr>
        <p:grpSpPr>
          <a:xfrm>
            <a:off x="280800" y="2514600"/>
            <a:ext cx="1152720" cy="909720"/>
            <a:chOff x="280800" y="2514600"/>
            <a:chExt cx="1152720" cy="909720"/>
          </a:xfrm>
        </p:grpSpPr>
        <p:sp>
          <p:nvSpPr>
            <p:cNvPr id="184" name="Скругленный прямоугольник 282"/>
            <p:cNvSpPr/>
            <p:nvPr/>
          </p:nvSpPr>
          <p:spPr>
            <a:xfrm>
              <a:off x="290880" y="2514600"/>
              <a:ext cx="114264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П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ервич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зве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Группа 283"/>
            <p:cNvGrpSpPr/>
            <p:nvPr/>
          </p:nvGrpSpPr>
          <p:grpSpPr>
            <a:xfrm>
              <a:off x="280800" y="2706840"/>
              <a:ext cx="319320" cy="717480"/>
              <a:chOff x="280800" y="2706840"/>
              <a:chExt cx="319320" cy="717480"/>
            </a:xfrm>
          </p:grpSpPr>
          <p:sp>
            <p:nvSpPr>
              <p:cNvPr id="210" name="Freeform 8"/>
              <p:cNvSpPr/>
              <p:nvPr/>
            </p:nvSpPr>
            <p:spPr>
              <a:xfrm flipH="1">
                <a:off x="280440" y="2843640"/>
                <a:ext cx="319320" cy="58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 flipH="1">
                <a:off x="280440" y="2843640"/>
                <a:ext cx="319320" cy="58068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 flipH="1">
                <a:off x="375120" y="2706840"/>
                <a:ext cx="127080" cy="133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1"/>
              <p:cNvSpPr/>
              <p:nvPr/>
            </p:nvSpPr>
            <p:spPr>
              <a:xfrm flipH="1">
                <a:off x="288720" y="2976840"/>
                <a:ext cx="125280" cy="44568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2"/>
              <p:cNvSpPr/>
              <p:nvPr/>
            </p:nvSpPr>
            <p:spPr>
              <a:xfrm flipH="1">
                <a:off x="288720" y="2976840"/>
                <a:ext cx="125280" cy="44568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"/>
              <p:cNvSpPr/>
              <p:nvPr/>
            </p:nvSpPr>
            <p:spPr>
              <a:xfrm flipH="1">
                <a:off x="282960" y="2955600"/>
                <a:ext cx="137880" cy="39240"/>
              </a:xfrm>
              <a:prstGeom prst="pie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4"/>
              <p:cNvSpPr/>
              <p:nvPr/>
            </p:nvSpPr>
            <p:spPr>
              <a:xfrm flipH="1">
                <a:off x="282960" y="2955600"/>
                <a:ext cx="137880" cy="392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"/>
              <p:cNvSpPr/>
              <p:nvPr/>
            </p:nvSpPr>
            <p:spPr>
              <a:xfrm flipH="1">
                <a:off x="288720" y="2934720"/>
                <a:ext cx="95760" cy="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6"/>
              <p:cNvSpPr/>
              <p:nvPr/>
            </p:nvSpPr>
            <p:spPr>
              <a:xfrm flipH="1">
                <a:off x="288000" y="2941200"/>
                <a:ext cx="96480" cy="590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"/>
              <p:cNvSpPr/>
              <p:nvPr/>
            </p:nvSpPr>
            <p:spPr>
              <a:xfrm flipH="1">
                <a:off x="300960" y="3035880"/>
                <a:ext cx="101880" cy="684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8"/>
              <p:cNvSpPr/>
              <p:nvPr/>
            </p:nvSpPr>
            <p:spPr>
              <a:xfrm flipH="1">
                <a:off x="300960" y="3035880"/>
                <a:ext cx="101880" cy="68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21" name="Прямая со стрелкой 178"/>
          <p:cNvCxnSpPr>
            <a:stCxn id="189" idx="3"/>
            <a:endCxn id="187" idx="1"/>
          </p:cNvCxnSpPr>
          <p:nvPr/>
        </p:nvCxnSpPr>
        <p:spPr>
          <a:xfrm>
            <a:off x="1433160" y="4059360"/>
            <a:ext cx="919800" cy="119592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cxnSp>
        <p:nvCxnSpPr>
          <p:cNvPr id="222" name="Прямая со стрелкой 168"/>
          <p:cNvCxnSpPr>
            <a:stCxn id="184" idx="3"/>
            <a:endCxn id="187" idx="1"/>
          </p:cNvCxnSpPr>
          <p:nvPr/>
        </p:nvCxnSpPr>
        <p:spPr>
          <a:xfrm>
            <a:off x="1433160" y="2800080"/>
            <a:ext cx="919800" cy="245448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sp>
        <p:nvSpPr>
          <p:cNvPr id="223" name="Прямоугольник 1535"/>
          <p:cNvSpPr/>
          <p:nvPr/>
        </p:nvSpPr>
        <p:spPr>
          <a:xfrm>
            <a:off x="3933720" y="3848040"/>
            <a:ext cx="236520" cy="593640"/>
          </a:xfrm>
          <a:prstGeom prst="rect">
            <a:avLst/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536"/>
          <p:cNvSpPr/>
          <p:nvPr/>
        </p:nvSpPr>
        <p:spPr>
          <a:xfrm>
            <a:off x="3933720" y="2270160"/>
            <a:ext cx="236520" cy="9316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537"/>
          <p:cNvSpPr/>
          <p:nvPr/>
        </p:nvSpPr>
        <p:spPr>
          <a:xfrm>
            <a:off x="3933720" y="5375160"/>
            <a:ext cx="236520" cy="169920"/>
          </a:xfrm>
          <a:prstGeom prst="rect">
            <a:avLst/>
          </a:prstGeom>
          <a:solidFill>
            <a:srgbClr val="cc99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0" y="119700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Без Д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Прямая со стрелкой 168"/>
          <p:cNvCxnSpPr>
            <a:stCxn id="184" idx="3"/>
            <a:endCxn id="164" idx="1"/>
          </p:cNvCxnSpPr>
          <p:nvPr/>
        </p:nvCxnSpPr>
        <p:spPr>
          <a:xfrm>
            <a:off x="1433160" y="2800440"/>
            <a:ext cx="889560" cy="128016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grpSp>
        <p:nvGrpSpPr>
          <p:cNvPr id="228" name="Группа 266"/>
          <p:cNvGrpSpPr/>
          <p:nvPr/>
        </p:nvGrpSpPr>
        <p:grpSpPr>
          <a:xfrm>
            <a:off x="4346280" y="4933800"/>
            <a:ext cx="1152720" cy="973440"/>
            <a:chOff x="4346280" y="4933800"/>
            <a:chExt cx="1152720" cy="973440"/>
          </a:xfrm>
        </p:grpSpPr>
        <p:sp>
          <p:nvSpPr>
            <p:cNvPr id="229" name="Скругленный прямоугольник 39"/>
            <p:cNvSpPr/>
            <p:nvPr/>
          </p:nvSpPr>
          <p:spPr>
            <a:xfrm>
              <a:off x="4356360" y="4933800"/>
              <a:ext cx="114264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П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ервич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зве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Группа 62"/>
            <p:cNvGrpSpPr/>
            <p:nvPr/>
          </p:nvGrpSpPr>
          <p:grpSpPr>
            <a:xfrm>
              <a:off x="4346280" y="5189400"/>
              <a:ext cx="319320" cy="717840"/>
              <a:chOff x="4346280" y="5189400"/>
              <a:chExt cx="319320" cy="717840"/>
            </a:xfrm>
          </p:grpSpPr>
          <p:sp>
            <p:nvSpPr>
              <p:cNvPr id="231" name="Freeform 8"/>
              <p:cNvSpPr/>
              <p:nvPr/>
            </p:nvSpPr>
            <p:spPr>
              <a:xfrm flipH="1">
                <a:off x="4345920" y="5326200"/>
                <a:ext cx="319320" cy="58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"/>
              <p:cNvSpPr/>
              <p:nvPr/>
            </p:nvSpPr>
            <p:spPr>
              <a:xfrm flipH="1">
                <a:off x="4345920" y="5326200"/>
                <a:ext cx="319320" cy="5810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0"/>
              <p:cNvSpPr/>
              <p:nvPr/>
            </p:nvSpPr>
            <p:spPr>
              <a:xfrm flipH="1">
                <a:off x="4440600" y="5189400"/>
                <a:ext cx="127080" cy="133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1"/>
              <p:cNvSpPr/>
              <p:nvPr/>
            </p:nvSpPr>
            <p:spPr>
              <a:xfrm flipH="1">
                <a:off x="4354200" y="5459760"/>
                <a:ext cx="125280" cy="44568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2"/>
              <p:cNvSpPr/>
              <p:nvPr/>
            </p:nvSpPr>
            <p:spPr>
              <a:xfrm flipH="1">
                <a:off x="4354200" y="5459760"/>
                <a:ext cx="125280" cy="44568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3"/>
              <p:cNvSpPr/>
              <p:nvPr/>
            </p:nvSpPr>
            <p:spPr>
              <a:xfrm flipH="1">
                <a:off x="4348440" y="5438160"/>
                <a:ext cx="137880" cy="39240"/>
              </a:xfrm>
              <a:prstGeom prst="pie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4"/>
              <p:cNvSpPr/>
              <p:nvPr/>
            </p:nvSpPr>
            <p:spPr>
              <a:xfrm flipH="1">
                <a:off x="4348440" y="5438160"/>
                <a:ext cx="137880" cy="392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5"/>
              <p:cNvSpPr/>
              <p:nvPr/>
            </p:nvSpPr>
            <p:spPr>
              <a:xfrm flipH="1">
                <a:off x="4354200" y="5417640"/>
                <a:ext cx="95760" cy="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6"/>
              <p:cNvSpPr/>
              <p:nvPr/>
            </p:nvSpPr>
            <p:spPr>
              <a:xfrm flipH="1">
                <a:off x="4353480" y="5423760"/>
                <a:ext cx="96480" cy="590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"/>
              <p:cNvSpPr/>
              <p:nvPr/>
            </p:nvSpPr>
            <p:spPr>
              <a:xfrm flipH="1">
                <a:off x="4366440" y="5518800"/>
                <a:ext cx="101880" cy="684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8"/>
              <p:cNvSpPr/>
              <p:nvPr/>
            </p:nvSpPr>
            <p:spPr>
              <a:xfrm flipH="1">
                <a:off x="4366440" y="5518800"/>
                <a:ext cx="101880" cy="68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Скругленный прямоугольник 44"/>
          <p:cNvSpPr/>
          <p:nvPr/>
        </p:nvSpPr>
        <p:spPr>
          <a:xfrm>
            <a:off x="7039080" y="3683160"/>
            <a:ext cx="174312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Стациона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Группа 85"/>
          <p:cNvGrpSpPr/>
          <p:nvPr/>
        </p:nvGrpSpPr>
        <p:grpSpPr>
          <a:xfrm>
            <a:off x="7113600" y="4183200"/>
            <a:ext cx="682560" cy="387360"/>
            <a:chOff x="7113600" y="4183200"/>
            <a:chExt cx="682560" cy="387360"/>
          </a:xfrm>
        </p:grpSpPr>
        <p:sp>
          <p:nvSpPr>
            <p:cNvPr id="244" name="Полилиния 86"/>
            <p:cNvSpPr/>
            <p:nvPr/>
          </p:nvSpPr>
          <p:spPr>
            <a:xfrm>
              <a:off x="7362720" y="4262400"/>
              <a:ext cx="401760" cy="25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5"/>
            <p:cNvSpPr/>
            <p:nvPr/>
          </p:nvSpPr>
          <p:spPr>
            <a:xfrm>
              <a:off x="7117200" y="4214160"/>
              <a:ext cx="247320" cy="3272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6"/>
            <p:cNvSpPr/>
            <p:nvPr/>
          </p:nvSpPr>
          <p:spPr>
            <a:xfrm>
              <a:off x="7548840" y="4183200"/>
              <a:ext cx="24732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7"/>
            <p:cNvSpPr/>
            <p:nvPr/>
          </p:nvSpPr>
          <p:spPr>
            <a:xfrm>
              <a:off x="7548840" y="4183200"/>
              <a:ext cx="247320" cy="32868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8"/>
            <p:cNvSpPr/>
            <p:nvPr/>
          </p:nvSpPr>
          <p:spPr>
            <a:xfrm>
              <a:off x="7362000" y="4328640"/>
              <a:ext cx="381960" cy="5508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9"/>
            <p:cNvSpPr/>
            <p:nvPr/>
          </p:nvSpPr>
          <p:spPr>
            <a:xfrm flipH="1" flipV="1">
              <a:off x="7725960" y="4499640"/>
              <a:ext cx="28800" cy="1080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0"/>
            <p:cNvSpPr/>
            <p:nvPr/>
          </p:nvSpPr>
          <p:spPr>
            <a:xfrm>
              <a:off x="7118280" y="4213080"/>
              <a:ext cx="247320" cy="329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1"/>
            <p:cNvSpPr/>
            <p:nvPr/>
          </p:nvSpPr>
          <p:spPr>
            <a:xfrm>
              <a:off x="7118280" y="4213080"/>
              <a:ext cx="247320" cy="329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2"/>
            <p:cNvSpPr/>
            <p:nvPr/>
          </p:nvSpPr>
          <p:spPr>
            <a:xfrm>
              <a:off x="7368120" y="4262400"/>
              <a:ext cx="391680" cy="6588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3"/>
            <p:cNvSpPr/>
            <p:nvPr/>
          </p:nvSpPr>
          <p:spPr>
            <a:xfrm>
              <a:off x="7548840" y="4190400"/>
              <a:ext cx="2160" cy="7704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4"/>
            <p:cNvSpPr/>
            <p:nvPr/>
          </p:nvSpPr>
          <p:spPr>
            <a:xfrm>
              <a:off x="7113600" y="4217760"/>
              <a:ext cx="208440" cy="3236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5"/>
            <p:cNvSpPr/>
            <p:nvPr/>
          </p:nvSpPr>
          <p:spPr>
            <a:xfrm>
              <a:off x="7360920" y="4263840"/>
              <a:ext cx="397800" cy="25632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6"/>
            <p:cNvSpPr/>
            <p:nvPr/>
          </p:nvSpPr>
          <p:spPr>
            <a:xfrm>
              <a:off x="7427520" y="4290120"/>
              <a:ext cx="134640" cy="6372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7"/>
            <p:cNvSpPr/>
            <p:nvPr/>
          </p:nvSpPr>
          <p:spPr>
            <a:xfrm>
              <a:off x="7534440" y="4269600"/>
              <a:ext cx="176760" cy="23112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8"/>
            <p:cNvSpPr/>
            <p:nvPr/>
          </p:nvSpPr>
          <p:spPr>
            <a:xfrm>
              <a:off x="7570800" y="4221720"/>
              <a:ext cx="175680" cy="96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9"/>
            <p:cNvSpPr/>
            <p:nvPr/>
          </p:nvSpPr>
          <p:spPr>
            <a:xfrm>
              <a:off x="7470000" y="4498560"/>
              <a:ext cx="318960" cy="720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0"/>
            <p:cNvSpPr/>
            <p:nvPr/>
          </p:nvSpPr>
          <p:spPr>
            <a:xfrm>
              <a:off x="7664040" y="4527360"/>
              <a:ext cx="122400" cy="396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1" name="Прямая со стрелкой 160"/>
          <p:cNvCxnSpPr>
            <a:stCxn id="262" idx="3"/>
            <a:endCxn id="263" idx="1"/>
          </p:cNvCxnSpPr>
          <p:nvPr/>
        </p:nvCxnSpPr>
        <p:spPr>
          <a:xfrm>
            <a:off x="5499000" y="2785680"/>
            <a:ext cx="370800" cy="125316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cxnSp>
        <p:nvCxnSpPr>
          <p:cNvPr id="264" name="Прямая со стрелкой 175"/>
          <p:cNvCxnSpPr>
            <a:stCxn id="265" idx="3"/>
            <a:endCxn id="263" idx="1"/>
          </p:cNvCxnSpPr>
          <p:nvPr/>
        </p:nvCxnSpPr>
        <p:spPr>
          <a:xfrm flipV="1">
            <a:off x="5499000" y="4038120"/>
            <a:ext cx="370800" cy="720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cxnSp>
        <p:nvCxnSpPr>
          <p:cNvPr id="266" name="Прямая со стрелкой 187"/>
          <p:cNvCxnSpPr>
            <a:stCxn id="229" idx="3"/>
            <a:endCxn id="263" idx="1"/>
          </p:cNvCxnSpPr>
          <p:nvPr/>
        </p:nvCxnSpPr>
        <p:spPr>
          <a:xfrm flipV="1">
            <a:off x="5499000" y="4037760"/>
            <a:ext cx="370800" cy="118188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sp>
        <p:nvSpPr>
          <p:cNvPr id="267" name="Скругленный прямоугольник 45"/>
          <p:cNvSpPr/>
          <p:nvPr/>
        </p:nvSpPr>
        <p:spPr>
          <a:xfrm>
            <a:off x="7050240" y="4834080"/>
            <a:ext cx="1712880" cy="67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Сана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6" descr="E:\Новая папка (2)\derevo2.wmf"/>
          <p:cNvPicPr/>
          <p:nvPr/>
        </p:nvPicPr>
        <p:blipFill>
          <a:blip r:embed="rId3"/>
          <a:stretch/>
        </p:blipFill>
        <p:spPr>
          <a:xfrm>
            <a:off x="7094520" y="5241960"/>
            <a:ext cx="501840" cy="550800"/>
          </a:xfrm>
          <a:prstGeom prst="rect">
            <a:avLst/>
          </a:prstGeom>
          <a:ln w="0">
            <a:noFill/>
          </a:ln>
        </p:spPr>
      </p:pic>
      <p:sp>
        <p:nvSpPr>
          <p:cNvPr id="269" name="Скругленный прямоугольник 42"/>
          <p:cNvSpPr/>
          <p:nvPr/>
        </p:nvSpPr>
        <p:spPr>
          <a:xfrm>
            <a:off x="6983280" y="2330280"/>
            <a:ext cx="1779840" cy="71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Высокотехнологич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медицинск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цент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7" descr="E:\Новая папка (2)\Иконки.wmf"/>
          <p:cNvPicPr/>
          <p:nvPr/>
        </p:nvPicPr>
        <p:blipFill>
          <a:blip r:embed="rId4"/>
          <a:stretch/>
        </p:blipFill>
        <p:spPr>
          <a:xfrm>
            <a:off x="6818400" y="2763720"/>
            <a:ext cx="636480" cy="530280"/>
          </a:xfrm>
          <a:prstGeom prst="rect">
            <a:avLst/>
          </a:prstGeom>
          <a:ln w="0">
            <a:noFill/>
          </a:ln>
        </p:spPr>
      </p:pic>
      <p:grpSp>
        <p:nvGrpSpPr>
          <p:cNvPr id="271" name="Группа 267"/>
          <p:cNvGrpSpPr/>
          <p:nvPr/>
        </p:nvGrpSpPr>
        <p:grpSpPr>
          <a:xfrm>
            <a:off x="4346280" y="3759120"/>
            <a:ext cx="1152720" cy="973080"/>
            <a:chOff x="4346280" y="3759120"/>
            <a:chExt cx="1152720" cy="973080"/>
          </a:xfrm>
        </p:grpSpPr>
        <p:sp>
          <p:nvSpPr>
            <p:cNvPr id="265" name="Скругленный прямоугольник 268"/>
            <p:cNvSpPr/>
            <p:nvPr/>
          </p:nvSpPr>
          <p:spPr>
            <a:xfrm>
              <a:off x="4356360" y="3759120"/>
              <a:ext cx="114264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П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ервич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зве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Группа 269"/>
            <p:cNvGrpSpPr/>
            <p:nvPr/>
          </p:nvGrpSpPr>
          <p:grpSpPr>
            <a:xfrm>
              <a:off x="4346280" y="4014360"/>
              <a:ext cx="319320" cy="717840"/>
              <a:chOff x="4346280" y="4014360"/>
              <a:chExt cx="319320" cy="717840"/>
            </a:xfrm>
          </p:grpSpPr>
          <p:sp>
            <p:nvSpPr>
              <p:cNvPr id="273" name="Freeform 8"/>
              <p:cNvSpPr/>
              <p:nvPr/>
            </p:nvSpPr>
            <p:spPr>
              <a:xfrm flipH="1">
                <a:off x="4345920" y="4151160"/>
                <a:ext cx="319320" cy="581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"/>
              <p:cNvSpPr/>
              <p:nvPr/>
            </p:nvSpPr>
            <p:spPr>
              <a:xfrm flipH="1">
                <a:off x="4345920" y="4151160"/>
                <a:ext cx="319320" cy="5810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0"/>
              <p:cNvSpPr/>
              <p:nvPr/>
            </p:nvSpPr>
            <p:spPr>
              <a:xfrm flipH="1">
                <a:off x="4440600" y="4014360"/>
                <a:ext cx="127080" cy="133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1"/>
              <p:cNvSpPr/>
              <p:nvPr/>
            </p:nvSpPr>
            <p:spPr>
              <a:xfrm flipH="1">
                <a:off x="4354200" y="4284720"/>
                <a:ext cx="125280" cy="44568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2"/>
              <p:cNvSpPr/>
              <p:nvPr/>
            </p:nvSpPr>
            <p:spPr>
              <a:xfrm flipH="1">
                <a:off x="4354200" y="4284720"/>
                <a:ext cx="125280" cy="44568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"/>
              <p:cNvSpPr/>
              <p:nvPr/>
            </p:nvSpPr>
            <p:spPr>
              <a:xfrm flipH="1">
                <a:off x="4348440" y="4263120"/>
                <a:ext cx="137880" cy="39240"/>
              </a:xfrm>
              <a:prstGeom prst="pie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4"/>
              <p:cNvSpPr/>
              <p:nvPr/>
            </p:nvSpPr>
            <p:spPr>
              <a:xfrm flipH="1">
                <a:off x="4348440" y="4263120"/>
                <a:ext cx="137880" cy="392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5"/>
              <p:cNvSpPr/>
              <p:nvPr/>
            </p:nvSpPr>
            <p:spPr>
              <a:xfrm flipH="1">
                <a:off x="4354200" y="4242600"/>
                <a:ext cx="95760" cy="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6"/>
              <p:cNvSpPr/>
              <p:nvPr/>
            </p:nvSpPr>
            <p:spPr>
              <a:xfrm flipH="1">
                <a:off x="4353480" y="4248720"/>
                <a:ext cx="96480" cy="590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7"/>
              <p:cNvSpPr/>
              <p:nvPr/>
            </p:nvSpPr>
            <p:spPr>
              <a:xfrm flipH="1">
                <a:off x="4366440" y="4343760"/>
                <a:ext cx="101880" cy="684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8"/>
              <p:cNvSpPr/>
              <p:nvPr/>
            </p:nvSpPr>
            <p:spPr>
              <a:xfrm flipH="1">
                <a:off x="4366440" y="4343760"/>
                <a:ext cx="101880" cy="68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Группа 281"/>
          <p:cNvGrpSpPr/>
          <p:nvPr/>
        </p:nvGrpSpPr>
        <p:grpSpPr>
          <a:xfrm>
            <a:off x="4346280" y="2500200"/>
            <a:ext cx="1152720" cy="909720"/>
            <a:chOff x="4346280" y="2500200"/>
            <a:chExt cx="1152720" cy="909720"/>
          </a:xfrm>
        </p:grpSpPr>
        <p:sp>
          <p:nvSpPr>
            <p:cNvPr id="262" name="Скругленный прямоугольник 282"/>
            <p:cNvSpPr/>
            <p:nvPr/>
          </p:nvSpPr>
          <p:spPr>
            <a:xfrm>
              <a:off x="4356360" y="2500200"/>
              <a:ext cx="114264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adff"/>
                </a:gs>
                <a:gs pos="100000">
                  <a:srgbClr val="e1e8ff"/>
                </a:gs>
              </a:gsLst>
              <a:lin ang="16200000"/>
            </a:gradFill>
            <a:ln w="9360">
              <a:solidFill>
                <a:srgbClr val="2e62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ЛП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первич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зве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Группа 283"/>
            <p:cNvGrpSpPr/>
            <p:nvPr/>
          </p:nvGrpSpPr>
          <p:grpSpPr>
            <a:xfrm>
              <a:off x="4346280" y="2692440"/>
              <a:ext cx="319320" cy="717480"/>
              <a:chOff x="4346280" y="2692440"/>
              <a:chExt cx="319320" cy="717480"/>
            </a:xfrm>
          </p:grpSpPr>
          <p:sp>
            <p:nvSpPr>
              <p:cNvPr id="286" name="Freeform 8"/>
              <p:cNvSpPr/>
              <p:nvPr/>
            </p:nvSpPr>
            <p:spPr>
              <a:xfrm flipH="1">
                <a:off x="4345920" y="2829240"/>
                <a:ext cx="319320" cy="58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9"/>
              <p:cNvSpPr/>
              <p:nvPr/>
            </p:nvSpPr>
            <p:spPr>
              <a:xfrm flipH="1">
                <a:off x="4345920" y="2829240"/>
                <a:ext cx="319320" cy="58068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 flipH="1">
                <a:off x="4440600" y="2692440"/>
                <a:ext cx="127080" cy="133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 flipH="1">
                <a:off x="4354200" y="2962440"/>
                <a:ext cx="125280" cy="44568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 flipH="1">
                <a:off x="4354200" y="2962440"/>
                <a:ext cx="125280" cy="44568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 flipH="1">
                <a:off x="4348440" y="2941200"/>
                <a:ext cx="137880" cy="39240"/>
              </a:xfrm>
              <a:prstGeom prst="pie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 flipH="1">
                <a:off x="4348440" y="2941200"/>
                <a:ext cx="137880" cy="392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 flipH="1">
                <a:off x="4354200" y="2920320"/>
                <a:ext cx="95760" cy="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 flipH="1">
                <a:off x="4353480" y="2926800"/>
                <a:ext cx="96480" cy="590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 flipH="1">
                <a:off x="4366440" y="3021480"/>
                <a:ext cx="101880" cy="6840"/>
              </a:xfrm>
              <a:prstGeom prst="pie">
                <a:avLst/>
              </a:prstGeom>
              <a:solidFill>
                <a:srgbClr val="ded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 flipH="1">
                <a:off x="4366440" y="3021480"/>
                <a:ext cx="101880" cy="6840"/>
              </a:xfrm>
              <a:prstGeom prst="pie">
                <a:avLst/>
              </a:prstGeom>
              <a:noFill/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Прямоугольник 1535"/>
          <p:cNvSpPr/>
          <p:nvPr/>
        </p:nvSpPr>
        <p:spPr>
          <a:xfrm>
            <a:off x="8643960" y="3809880"/>
            <a:ext cx="236520" cy="594000"/>
          </a:xfrm>
          <a:prstGeom prst="rect">
            <a:avLst/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85"/>
          <p:cNvSpPr/>
          <p:nvPr/>
        </p:nvSpPr>
        <p:spPr>
          <a:xfrm>
            <a:off x="5869080" y="3648240"/>
            <a:ext cx="853920" cy="78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Д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 стрелкой 107"/>
          <p:cNvCxnSpPr>
            <a:stCxn id="263" idx="3"/>
            <a:endCxn id="269" idx="1"/>
          </p:cNvCxnSpPr>
          <p:nvPr/>
        </p:nvCxnSpPr>
        <p:spPr>
          <a:xfrm flipV="1">
            <a:off x="6722640" y="2687760"/>
            <a:ext cx="261000" cy="135108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cxnSp>
        <p:nvCxnSpPr>
          <p:cNvPr id="299" name="Прямая со стрелкой 108"/>
          <p:cNvCxnSpPr>
            <a:stCxn id="263" idx="3"/>
            <a:endCxn id="242" idx="1"/>
          </p:cNvCxnSpPr>
          <p:nvPr/>
        </p:nvCxnSpPr>
        <p:spPr>
          <a:xfrm>
            <a:off x="6723000" y="4038120"/>
            <a:ext cx="316800" cy="252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cxnSp>
        <p:nvCxnSpPr>
          <p:cNvPr id="300" name="Прямая со стрелкой 109"/>
          <p:cNvCxnSpPr>
            <a:stCxn id="263" idx="3"/>
            <a:endCxn id="267" idx="1"/>
          </p:cNvCxnSpPr>
          <p:nvPr/>
        </p:nvCxnSpPr>
        <p:spPr>
          <a:xfrm>
            <a:off x="6722640" y="4038120"/>
            <a:ext cx="327960" cy="113580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  <a:tailEnd len="med" type="stealth" w="lg"/>
          </a:ln>
        </p:spPr>
      </p:cxnSp>
      <p:sp>
        <p:nvSpPr>
          <p:cNvPr id="301" name="Прямоугольник 118"/>
          <p:cNvSpPr/>
          <p:nvPr/>
        </p:nvSpPr>
        <p:spPr>
          <a:xfrm>
            <a:off x="8643960" y="2454120"/>
            <a:ext cx="236520" cy="592200"/>
          </a:xfrm>
          <a:prstGeom prst="rect">
            <a:avLst/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119"/>
          <p:cNvSpPr/>
          <p:nvPr/>
        </p:nvSpPr>
        <p:spPr>
          <a:xfrm>
            <a:off x="8643960" y="4921200"/>
            <a:ext cx="236520" cy="592200"/>
          </a:xfrm>
          <a:prstGeom prst="rect">
            <a:avLst/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Группа 143"/>
          <p:cNvGrpSpPr/>
          <p:nvPr/>
        </p:nvGrpSpPr>
        <p:grpSpPr>
          <a:xfrm>
            <a:off x="5950080" y="4094280"/>
            <a:ext cx="736560" cy="874440"/>
            <a:chOff x="5950080" y="4094280"/>
            <a:chExt cx="736560" cy="874440"/>
          </a:xfrm>
        </p:grpSpPr>
        <p:sp>
          <p:nvSpPr>
            <p:cNvPr id="304" name="Freeform 6"/>
            <p:cNvSpPr/>
            <p:nvPr/>
          </p:nvSpPr>
          <p:spPr>
            <a:xfrm>
              <a:off x="5950080" y="4544280"/>
              <a:ext cx="736560" cy="54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7"/>
            <p:cNvSpPr/>
            <p:nvPr/>
          </p:nvSpPr>
          <p:spPr>
            <a:xfrm>
              <a:off x="5957640" y="4545720"/>
              <a:ext cx="727560" cy="8280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5986080" y="4628880"/>
              <a:ext cx="518760" cy="336600"/>
            </a:xfrm>
            <a:prstGeom prst="rect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6502320" y="4575960"/>
              <a:ext cx="170640" cy="39276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6534000" y="4372200"/>
              <a:ext cx="72360" cy="17208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>
              <a:off x="6311520" y="4094280"/>
              <a:ext cx="145080" cy="152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2"/>
            <p:cNvSpPr/>
            <p:nvPr/>
          </p:nvSpPr>
          <p:spPr>
            <a:xfrm>
              <a:off x="6172200" y="4527720"/>
              <a:ext cx="22680" cy="14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3"/>
            <p:cNvSpPr/>
            <p:nvPr/>
          </p:nvSpPr>
          <p:spPr>
            <a:xfrm>
              <a:off x="6181560" y="4258800"/>
              <a:ext cx="352440" cy="30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4"/>
            <p:cNvSpPr/>
            <p:nvPr/>
          </p:nvSpPr>
          <p:spPr>
            <a:xfrm>
              <a:off x="6190560" y="4545720"/>
              <a:ext cx="491760" cy="5256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5"/>
            <p:cNvSpPr/>
            <p:nvPr/>
          </p:nvSpPr>
          <p:spPr>
            <a:xfrm>
              <a:off x="6025680" y="4181760"/>
              <a:ext cx="138960" cy="29880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"/>
            <p:cNvSpPr/>
            <p:nvPr/>
          </p:nvSpPr>
          <p:spPr>
            <a:xfrm>
              <a:off x="6040800" y="4199760"/>
              <a:ext cx="114840" cy="2520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7"/>
            <p:cNvSpPr/>
            <p:nvPr/>
          </p:nvSpPr>
          <p:spPr>
            <a:xfrm>
              <a:off x="6116400" y="4498920"/>
              <a:ext cx="189000" cy="7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8"/>
            <p:cNvSpPr/>
            <p:nvPr/>
          </p:nvSpPr>
          <p:spPr>
            <a:xfrm>
              <a:off x="6116400" y="4498920"/>
              <a:ext cx="189000" cy="752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6130080" y="4500360"/>
              <a:ext cx="186120" cy="9360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0"/>
            <p:cNvSpPr/>
            <p:nvPr/>
          </p:nvSpPr>
          <p:spPr>
            <a:xfrm>
              <a:off x="6145200" y="4551840"/>
              <a:ext cx="27000" cy="104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"/>
            <p:cNvSpPr/>
            <p:nvPr/>
          </p:nvSpPr>
          <p:spPr>
            <a:xfrm>
              <a:off x="6178320" y="4553280"/>
              <a:ext cx="27000" cy="104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2"/>
            <p:cNvSpPr/>
            <p:nvPr/>
          </p:nvSpPr>
          <p:spPr>
            <a:xfrm>
              <a:off x="6213240" y="4556520"/>
              <a:ext cx="27000" cy="104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3"/>
            <p:cNvSpPr/>
            <p:nvPr/>
          </p:nvSpPr>
          <p:spPr>
            <a:xfrm>
              <a:off x="6244920" y="4557960"/>
              <a:ext cx="36000" cy="1044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4"/>
            <p:cNvSpPr/>
            <p:nvPr/>
          </p:nvSpPr>
          <p:spPr>
            <a:xfrm>
              <a:off x="6183000" y="4512600"/>
              <a:ext cx="73800" cy="4212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5"/>
            <p:cNvSpPr/>
            <p:nvPr/>
          </p:nvSpPr>
          <p:spPr>
            <a:xfrm>
              <a:off x="6128280" y="4514040"/>
              <a:ext cx="57240" cy="288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6"/>
            <p:cNvSpPr/>
            <p:nvPr/>
          </p:nvSpPr>
          <p:spPr>
            <a:xfrm>
              <a:off x="6132960" y="4521600"/>
              <a:ext cx="60480" cy="288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7"/>
            <p:cNvSpPr/>
            <p:nvPr/>
          </p:nvSpPr>
          <p:spPr>
            <a:xfrm>
              <a:off x="6139080" y="4529160"/>
              <a:ext cx="58680" cy="288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8"/>
            <p:cNvSpPr/>
            <p:nvPr/>
          </p:nvSpPr>
          <p:spPr>
            <a:xfrm>
              <a:off x="6145200" y="4538160"/>
              <a:ext cx="70920" cy="432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9"/>
            <p:cNvSpPr/>
            <p:nvPr/>
          </p:nvSpPr>
          <p:spPr>
            <a:xfrm>
              <a:off x="6130080" y="4514040"/>
              <a:ext cx="11880" cy="2412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30"/>
            <p:cNvSpPr/>
            <p:nvPr/>
          </p:nvSpPr>
          <p:spPr>
            <a:xfrm>
              <a:off x="6148080" y="4515480"/>
              <a:ext cx="19440" cy="2232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31"/>
            <p:cNvSpPr/>
            <p:nvPr/>
          </p:nvSpPr>
          <p:spPr>
            <a:xfrm>
              <a:off x="6154200" y="4506480"/>
              <a:ext cx="40680" cy="3456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2"/>
            <p:cNvSpPr/>
            <p:nvPr/>
          </p:nvSpPr>
          <p:spPr>
            <a:xfrm>
              <a:off x="6166440" y="4505040"/>
              <a:ext cx="27000" cy="1944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3"/>
            <p:cNvSpPr/>
            <p:nvPr/>
          </p:nvSpPr>
          <p:spPr>
            <a:xfrm>
              <a:off x="6314400" y="4566960"/>
              <a:ext cx="86040" cy="2232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4"/>
            <p:cNvSpPr/>
            <p:nvPr/>
          </p:nvSpPr>
          <p:spPr>
            <a:xfrm>
              <a:off x="6397920" y="4545720"/>
              <a:ext cx="66240" cy="2988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5"/>
            <p:cNvSpPr/>
            <p:nvPr/>
          </p:nvSpPr>
          <p:spPr>
            <a:xfrm>
              <a:off x="6458400" y="4544280"/>
              <a:ext cx="222120" cy="1440"/>
            </a:xfrm>
            <a:prstGeom prst="line">
              <a:avLst/>
            </a:prstGeom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6"/>
            <p:cNvSpPr/>
            <p:nvPr/>
          </p:nvSpPr>
          <p:spPr>
            <a:xfrm>
              <a:off x="6399360" y="4532400"/>
              <a:ext cx="572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7"/>
            <p:cNvSpPr/>
            <p:nvPr/>
          </p:nvSpPr>
          <p:spPr>
            <a:xfrm>
              <a:off x="5995440" y="4183200"/>
              <a:ext cx="138960" cy="295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8"/>
            <p:cNvSpPr/>
            <p:nvPr/>
          </p:nvSpPr>
          <p:spPr>
            <a:xfrm>
              <a:off x="6023880" y="4307040"/>
              <a:ext cx="98280" cy="27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9"/>
            <p:cNvSpPr/>
            <p:nvPr/>
          </p:nvSpPr>
          <p:spPr>
            <a:xfrm>
              <a:off x="6023880" y="4307040"/>
              <a:ext cx="98280" cy="27648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0"/>
            <p:cNvSpPr/>
            <p:nvPr/>
          </p:nvSpPr>
          <p:spPr>
            <a:xfrm>
              <a:off x="6025680" y="4550400"/>
              <a:ext cx="93600" cy="720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1"/>
            <p:cNvSpPr/>
            <p:nvPr/>
          </p:nvSpPr>
          <p:spPr>
            <a:xfrm>
              <a:off x="6071040" y="4403880"/>
              <a:ext cx="20880" cy="138960"/>
            </a:xfrm>
            <a:prstGeom prst="pie">
              <a:avLst/>
            </a:prstGeom>
            <a:noFill/>
            <a:ln w="0">
              <a:solidFill>
                <a:srgbClr val="1f1a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2"/>
            <p:cNvSpPr/>
            <p:nvPr/>
          </p:nvSpPr>
          <p:spPr>
            <a:xfrm>
              <a:off x="6521760" y="4544280"/>
              <a:ext cx="163080" cy="8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39"/>
          <p:cNvSpPr/>
          <p:nvPr/>
        </p:nvSpPr>
        <p:spPr>
          <a:xfrm>
            <a:off x="4467240" y="119700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ри работе Д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2646360" y="19400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груж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9"/>
          <p:cNvSpPr/>
          <p:nvPr/>
        </p:nvSpPr>
        <p:spPr>
          <a:xfrm>
            <a:off x="7381800" y="194004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груж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Прямая со стрелкой 160"/>
          <p:cNvCxnSpPr/>
          <p:nvPr/>
        </p:nvCxnSpPr>
        <p:spPr>
          <a:xfrm flipH="1">
            <a:off x="4215600" y="1641240"/>
            <a:ext cx="11880" cy="4718520"/>
          </a:xfrm>
          <a:prstGeom prst="straightConnector1">
            <a:avLst/>
          </a:prstGeom>
          <a:ln w="9360">
            <a:solidFill>
              <a:srgbClr val="2e62cb"/>
            </a:solidFill>
            <a:prstDash val="dash"/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181-E6F4-4FA3-AE01-ACCB1606951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Что нужно сделать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обходимо обеспечить пациентов наглядной информацией об их правах в каждом лечебно-профилактическом учрежден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недрить в работу информационные терминалы с возможностью получения пациентом полной информации о регламенте госпитализации в любое учреждение, в том числе республиканские кли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14C-BA2A-4D0D-BC77-D7F6713B17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ерминал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rcRect l="959" t="0" r="0" b="67602"/>
          <a:stretch/>
        </p:blipFill>
        <p:spPr>
          <a:xfrm>
            <a:off x="2484360" y="1052640"/>
            <a:ext cx="6659640" cy="22906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332000" y="4149720"/>
            <a:ext cx="865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195640" y="3284280"/>
            <a:ext cx="309708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674-08AB-49F6-A8F2-4F339DA529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Платные услуги в медицин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труктуре заработной платы сотрудников доля платных услуг составляет до 50 – 7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онтролируемое предоставление платных услуг способствовало перекосу заработной платы специалистов лечебного звена и параклиники в сторону последних с разницей до 2 – 3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дельные клиники превратились в «супермаркеты диагностических исследов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D11-DA59-4A06-9EA6-DE591D059C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змер заработной платы зав.отделениями в клинических и параклинических отделениях МКДЦ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50920" y="1413000"/>
          <a:ext cx="8642160" cy="4974840"/>
        </p:xfrm>
        <a:graphic>
          <a:graphicData uri="http://schemas.openxmlformats.org/drawingml/2006/table">
            <a:tbl>
              <a:tblPr/>
              <a:tblGrid>
                <a:gridCol w="2963880"/>
                <a:gridCol w="2801880"/>
                <a:gridCol w="2876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есяч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 (ру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платных услу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уктуре заработной плат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делением нейрохирур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. отделением кардиохирур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. отделением лучевой диагнос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. отделением У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. отделени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. диагнос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8CE-0329-44FD-99D9-ABBAB8A9C6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62800" cy="1152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Сравнительные данные заработной платы зав.отделениями и врачей в МКДЦ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95280" y="1413000"/>
          <a:ext cx="8291520" cy="4736880"/>
        </p:xfrm>
        <a:graphic>
          <a:graphicData uri="http://schemas.openxmlformats.org/drawingml/2006/table">
            <a:tbl>
              <a:tblPr/>
              <a:tblGrid>
                <a:gridCol w="2884320"/>
                <a:gridCol w="2668680"/>
                <a:gridCol w="2738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 (ру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ональная диагно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. отдел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чев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гно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. отдел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З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агно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. отдел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823-541B-4AD1-AC31-C8C6975944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00000" y="47628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56000" y="17924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162108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3b812f"/>
                </a:solidFill>
                <a:latin typeface="Arial"/>
              </a:rPr>
              <a:t>Прик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812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b812f"/>
                </a:solidFill>
                <a:latin typeface="Arial"/>
              </a:rPr>
              <a:t>Министерства здравоохра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812f"/>
                </a:solidFill>
                <a:latin typeface="Arial"/>
              </a:rPr>
              <a:t>Республики Татарстан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812f"/>
                </a:solidFill>
                <a:latin typeface="Arial"/>
              </a:rPr>
              <a:t>от 03.06.2008 № 4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«Об утверждении Правил предоставления платных медицинских услу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27280" y="55897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812f"/>
                </a:solidFill>
                <a:latin typeface="Times New Roman"/>
              </a:rPr>
              <a:t>www.minzdrav.tatar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F4F-5017-47AA-ADCE-38D1EA39B5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611280" y="1700280"/>
          <a:ext cx="7993080" cy="45370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44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реждения обязаны вывесить на стендах, плакатах, размещенных в общедоступных  местах для граждан   следующую информацию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о режиме работы учреждения, подразделений, кабинетов по оказанию платной и бесплатной медицинской помощ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  о видах медицинской помощи, оказываемых бесплатно, и условиях получения бесплатной медицинской помощ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   о перечне платных медицинских услуг с указанием их стоимости и об условиях предоставления этих услуг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 о правах, обязанностях, ответственности пациента и учрежд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о льготах, предоставляемых учреждением для отдельных категорий граждан (если имеются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о телефонах администрации учреждения и лицах, ответственных за предоставление платных медицинских услуг  в данном учреждении;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  о телефонах контролирующих органов (п.3.1.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1835280" y="476280"/>
            <a:ext cx="5400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Треб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к порядку организации платных медицинских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AA0-CE16-46E6-A150-1BAF44C46A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67676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740160"/>
            <a:ext cx="9142920" cy="4887720"/>
            <a:chOff x="0" y="740160"/>
            <a:chExt cx="9142920" cy="4887720"/>
          </a:xfrm>
        </p:grpSpPr>
        <p:cxnSp>
          <p:nvCxnSpPr>
            <p:cNvPr id="90" name="_s79877"/>
            <p:cNvCxnSpPr>
              <a:stCxn id="91" idx="0"/>
              <a:endCxn id="92" idx="2"/>
            </p:cNvCxnSpPr>
            <p:nvPr/>
          </p:nvCxnSpPr>
          <p:spPr>
            <a:xfrm flipV="1" rot="16200000">
              <a:off x="5327280" y="1883520"/>
              <a:ext cx="950400" cy="2461680"/>
            </a:xfrm>
            <a:prstGeom prst="bentConnector3">
              <a:avLst>
                <a:gd name="adj1" fmla="val 120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79878"/>
            <p:cNvCxnSpPr>
              <a:stCxn id="94" idx="0"/>
              <a:endCxn id="92" idx="2"/>
            </p:cNvCxnSpPr>
            <p:nvPr/>
          </p:nvCxnSpPr>
          <p:spPr>
            <a:xfrm flipH="1" flipV="1" rot="5400000">
              <a:off x="2865600" y="1883160"/>
              <a:ext cx="950400" cy="2462760"/>
            </a:xfrm>
            <a:prstGeom prst="bentConnector3">
              <a:avLst>
                <a:gd name="adj1" fmla="val 120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79879"/>
            <p:cNvSpPr/>
            <p:nvPr/>
          </p:nvSpPr>
          <p:spPr>
            <a:xfrm>
              <a:off x="2397600" y="740160"/>
              <a:ext cx="4347000" cy="189936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 o r r u p t i o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- коррупци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79880"/>
            <p:cNvSpPr/>
            <p:nvPr/>
          </p:nvSpPr>
          <p:spPr>
            <a:xfrm>
              <a:off x="0" y="3589560"/>
              <a:ext cx="4219920" cy="203832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«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нескольк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участнико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79881"/>
            <p:cNvSpPr/>
            <p:nvPr/>
          </p:nvSpPr>
          <p:spPr>
            <a:xfrm>
              <a:off x="4923000" y="3589560"/>
              <a:ext cx="4219920" cy="203832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«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ломать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наруша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EDA-A8D4-4E89-9905-4913631397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1116000" y="1773360"/>
          <a:ext cx="616572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16572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95280" y="260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812f"/>
                </a:solidFill>
                <a:latin typeface="Arial"/>
              </a:rPr>
              <a:t>Приобретение лекарственных препаратов пациентами в отдельных Л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b812f"/>
                </a:solidFill>
                <a:latin typeface="Arial"/>
              </a:rPr>
              <a:t>по данным анкетирования на 04.06.200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190-EF1C-4E5E-BDB0-516210BBF5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Результаты анкетирования пациентов по вопросам удовлетворенности КМП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 436 респондентов в 12 стационарах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- удовлетворены качеством ле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9,2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удовлетворены качеством обслед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8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- не имели проблем при госпита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6,7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отметили профессионализм врач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5C9-5213-4182-B603-410D5D75D0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Результаты анкетирования пациентов по вопросам удовлетворенности КМП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 436 респондентов в 12 стационарах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- отметили доброжелательно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ношение медицинского персо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1,2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каждый третий) - покупал лека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ли средства медицинского назнач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ациент указал, что ему пришлось заплатить медицинскому персонал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640-F0A7-48C7-9636-9FBA355CCA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80%-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удовлетворенность качеством лечения (по результатам анкетирования)  позволяет предположить, что 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20%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- не удовлетворены стационарной медицинской помощью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---------------------------------------------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роекция результатов анкетирования на весь объем госпитализации в РТ (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800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тыс.) дает количественный эквивалент неудовлетворенных качеством лечения -</a:t>
            </a:r>
            <a:br>
              <a:rPr sz="3200"/>
            </a:b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160 000 пациентов!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C68-A856-442C-94A7-DC8B4305C3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453200" cy="367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00720" y="3303720"/>
            <a:ext cx="4525920" cy="3395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648680" y="646200"/>
            <a:ext cx="439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Служба координаторов ДРКБ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м/с с высшим образованием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подчиняются непосредств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главному врачу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работают в круглосуточном режиме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анкетирование матерей проводят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вечернее время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800" y="465300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Принцип работы служб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опера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A64-604E-4909-8AA5-FC767F5EBC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ерминал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rcRect l="959" t="0" r="0" b="67602"/>
          <a:stretch/>
        </p:blipFill>
        <p:spPr>
          <a:xfrm>
            <a:off x="2484360" y="1052640"/>
            <a:ext cx="6659640" cy="2290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332000" y="4149720"/>
            <a:ext cx="865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195640" y="3284280"/>
            <a:ext cx="309708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E93-B99D-40C1-926F-266E8691CD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Динамика писем и обращений граждан 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I</a:t>
            </a: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 полугодие 2007-2008 гг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24000" y="1484280"/>
          <a:ext cx="331920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331920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5219640" y="1484280"/>
          <a:ext cx="3336840" cy="389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484280"/>
                    <a:ext cx="333684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6200" y="5373720"/>
            <a:ext cx="38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Общее количество пис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и обращений выросло на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5373720"/>
            <a:ext cx="4464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Количество служебных ра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по запросу прокуратуры и следств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комитетов снизилось на 11%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733-7C97-4612-B92A-430F0CC128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4032360" cy="8636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Задачи</a:t>
            </a: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ировать систему низкой толерантности к коррупционному поведению среди медицинских работников и паци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недрить контрактную систему оплаты труда, включив необходимость соблюдения этических норм по недопущению коррупционных проявлений в рабо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B97-09BD-4AC8-8AC7-614CD07B43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4103640" cy="936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Задачи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ысить информированность населения о правах пациента, осуществлять контроль за их соблюдением в ЛП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водить эффективный мониторинг качества и безопасности медицинской помощи, включая анализ удовлетворенности населения, с помощью электронных информационных систе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рганизация Диспетчерского центра МЗ 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4D7-A22C-42E9-B889-1DC294BABB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нистерство здравоохранения будет защищать права пациен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только потом отраслевые интере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ы охраняем здоровье населения, а не лечебные учре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932-BBC2-48B1-83FF-E9A6B44DE0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К о р р у п ц и я 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8560" y="126828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то преступление, заключающееся в прямом использовании должностным лицом прав, связанных с его должность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целях личного обога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C85-2F93-43C8-977F-0972072FF8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5651640" y="333360"/>
            <a:ext cx="30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сшая форма мотивации- когда для лица, которое собирается получить взятку, становится очевидным, что этого не следует делать, потому что это может разрушить всю его жизн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8000" y="4019400"/>
            <a:ext cx="871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Когда брать взятку не просто страш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неприемлемо по другим соображения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прилично и может просто разрушить будущую жизнь, карьер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ничтожить пенсию и так далее.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.А.Медвед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Фото пресс-службы Президента России"/>
          <p:cNvPicPr/>
          <p:nvPr/>
        </p:nvPicPr>
        <p:blipFill>
          <a:blip r:embed="rId1"/>
          <a:stretch/>
        </p:blipFill>
        <p:spPr>
          <a:xfrm>
            <a:off x="755640" y="404640"/>
            <a:ext cx="2781360" cy="318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470-0758-44AB-88AB-D7D1FE2111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28638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«…сфера медицины, наряду с ГИБДД, занимает лидирующее место по числу случаев взяточничества...»</a:t>
            </a:r>
            <a:br>
              <a:rPr sz="3600"/>
            </a:b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о данным социологического опроса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проведенного Федерально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службой охраны РФ (ФСО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3716280"/>
            <a:ext cx="8496360" cy="2160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мировом рейтинг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Индекс восприятия коррупци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sparensy International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реди 180 стра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2007 году Россия занимала 143 мест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DA7-314B-4C96-8983-F53A3375B2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716360" y="333360"/>
            <a:ext cx="4176720" cy="1079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0360" y="1700280"/>
            <a:ext cx="2952720" cy="1800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4076640"/>
            <a:ext cx="3313080" cy="1081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5300640"/>
            <a:ext cx="4608360" cy="792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005360"/>
            <a:ext cx="2305080" cy="10792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700280"/>
            <a:ext cx="2160720" cy="1728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33360"/>
            <a:ext cx="3745080" cy="1079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2708280"/>
            <a:ext cx="15843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285264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ВЗЯ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6028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Внесение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медицинские докуме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заведомо ложных с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26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Незаконная выдача листков временной нетруд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98900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Напр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на госпитализ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1628640"/>
            <a:ext cx="309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Признание призыв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по медицин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показаниям непригод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к воинской службе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07664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У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инвали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4076640"/>
            <a:ext cx="32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Получение разре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на оказание платных услуг, лиценз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5445000"/>
            <a:ext cx="47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Оформление медицинских кни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без прохождения медосмо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627280" y="3500280"/>
            <a:ext cx="93672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11640" y="3500280"/>
            <a:ext cx="1440" cy="187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3429000"/>
            <a:ext cx="1008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626920" y="1413000"/>
            <a:ext cx="15130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55640" y="29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84720" y="1413000"/>
            <a:ext cx="15825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29242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52B-A673-475E-88C7-BB997E6C51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52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Видимые и невидимые част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«Айсберга коррупции» в медицине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2060640"/>
            <a:ext cx="2087640" cy="3682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5e75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яточ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2421000"/>
            <a:ext cx="2303640" cy="3682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5e75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мог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2708280"/>
            <a:ext cx="2881440" cy="91692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5e75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сконтро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азания платн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3573360"/>
            <a:ext cx="3673440" cy="642600"/>
          </a:xfrm>
          <a:prstGeom prst="rect">
            <a:avLst/>
          </a:prstGeom>
          <a:gradFill rotWithShape="0">
            <a:gsLst>
              <a:gs pos="0">
                <a:srgbClr val="006633"/>
              </a:gs>
              <a:gs pos="100000">
                <a:srgbClr val="002f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целевое 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юджетных средств</a:t>
            </a: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4221000"/>
            <a:ext cx="4321080" cy="642600"/>
          </a:xfrm>
          <a:prstGeom prst="rect">
            <a:avLst/>
          </a:prstGeom>
          <a:gradFill rotWithShape="0">
            <a:gsLst>
              <a:gs pos="0">
                <a:srgbClr val="006633"/>
              </a:gs>
              <a:gs pos="100000">
                <a:srgbClr val="00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ррупция в системе поста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екарственных средств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869000"/>
            <a:ext cx="4824360" cy="642600"/>
          </a:xfrm>
          <a:prstGeom prst="rect">
            <a:avLst/>
          </a:prstGeom>
          <a:gradFill rotWithShape="0">
            <a:gsLst>
              <a:gs pos="0">
                <a:srgbClr val="006633"/>
              </a:gs>
              <a:gs pos="100000">
                <a:srgbClr val="00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ррупция в платеж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сте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5516640"/>
            <a:ext cx="5543280" cy="368280"/>
          </a:xfrm>
          <a:prstGeom prst="rect">
            <a:avLst/>
          </a:prstGeom>
          <a:gradFill rotWithShape="0">
            <a:gsLst>
              <a:gs pos="0">
                <a:srgbClr val="006633"/>
              </a:gs>
              <a:gs pos="100000">
                <a:srgbClr val="002f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ррупция в сфере государственных заку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1989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Совершенств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государ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(отраслев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364500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Исслед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коррупционного климата с участием фискальных органов и разработка системных мероприят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по противодействию корру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413000"/>
            <a:ext cx="5761080" cy="4464000"/>
          </a:xfrm>
          <a:custGeom>
            <a:avLst/>
            <a:gdLst/>
            <a:ahLst/>
            <a:rect l="l" t="t" r="r" b="b"/>
            <a:pathLst>
              <a:path w="3584" h="3175">
                <a:moveTo>
                  <a:pt x="0" y="3175"/>
                </a:moveTo>
                <a:cubicBezTo>
                  <a:pt x="586" y="1587"/>
                  <a:pt x="1172" y="0"/>
                  <a:pt x="1769" y="0"/>
                </a:cubicBezTo>
                <a:cubicBezTo>
                  <a:pt x="2366" y="0"/>
                  <a:pt x="3274" y="2661"/>
                  <a:pt x="3584" y="317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3573360"/>
            <a:ext cx="4392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3933720"/>
            <a:ext cx="574920" cy="862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2133720"/>
            <a:ext cx="646200" cy="79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15A-5654-44D1-9EC9-2C4FC8471D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720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Плановая госпитализация сегодня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сутствие четкого регламен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жная процедура отбора боль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регулируются потоки планов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ных в течение неде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т унифицированных листов ожи- дания на высокотехнологичные виды помощи по приорите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D887-BD3D-4D60-879F-AEE7F74FB7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6476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Плановая госпитализация сегодня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 НИЦТ ВТО очередность на эндопротезирование достигла 6 месяце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а 4.06.2008 в очереди 101 пациент (из 1700 имеющих показания), при этом нет регистра больных по степени нуждаем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6AA-5DDE-41F0-AE68-EC20DDB426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99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3b812f"/>
                </a:solidFill>
                <a:latin typeface="Arial"/>
              </a:rPr>
              <a:t>Пациент имеет пра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ажительное и гуманное 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бор врача, в том числе врача общей практики (семейного врача), лечащего врача и лечебно-профилактического уч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следование, лечение и содержание в условиях, соответствующих санитарно-гигиеническим требова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дение по его просьбе консилиума и консуль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легчение боли доступными способами и сред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йну информации о факте обращения за медицинской помощью, о состоянии здоровья, диагн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ированное добровольное согласие на медицинское вмеша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6840" y="5826240"/>
            <a:ext cx="6264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атья 30 Основ законодательства об охране здоровья граждан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A71-55E7-42EC-B8B5-8352268C85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08:01:24Z</dcterms:created>
  <dc:creator>владимир</dc:creator>
  <dc:description/>
  <dc:language>en-US</dc:language>
  <cp:lastModifiedBy>worker</cp:lastModifiedBy>
  <dcterms:modified xsi:type="dcterms:W3CDTF">2008-07-02T05:42:00Z</dcterms:modified>
  <cp:revision>32</cp:revision>
  <dc:subject/>
  <dc:title>плановая госпитализация: </dc:title>
</cp:coreProperties>
</file>