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7BE1B-CEC6-49E1-B284-2852D3E1D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C71C2-781A-4AD5-BE7A-D35E23EC4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234A4-CB59-4BE6-97E4-933F81C91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9093D-6065-462D-96B2-585F0F9D6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080E6-1DD4-42FF-8DDF-4AD6E9C5D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52EAA-A3D5-4AE5-B3B6-9624A96A3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E998C-AA2D-4EA2-A90E-942CC0218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156AA-FFA6-44C3-8003-E72144E0C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2308C-772F-41C0-A31A-D47B052EC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13E15-CE38-45E8-B629-758CA5562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43BA0-3720-406D-9C39-9876D5471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DDE72-3E36-409E-AE45-0C531A6AD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07CB0-6285-476B-8903-2EBA6C085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E7B83-43CC-4AD7-9A7C-A3AEF58B8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56245-3AEA-4517-8511-5F9042CA8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91B17-4A74-4A64-982D-2E5DC61AE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3BA63-EFD1-4C54-9BA7-50B6587C2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937D3-6B2C-4BFF-963B-AF053ABFD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CC2CB-7CE7-4C8E-AB54-D213B11EB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47112-8F2D-4AE7-97BD-90F156DE4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A04B0-A4A9-435B-ADB7-D693E949E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35FEC-B84B-4BE3-8CB0-BAA09CBEA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9DCBD-5609-40FB-B915-11D2BC2E7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CD2E6-6A6D-4F26-8E34-C0D819D7C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81E25-E18D-4857-A2F2-2FE48E01D03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40C22-40BD-43E0-8393-5B3D48DE393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785440" cy="619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2007 год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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Федеральным законодательством 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определен объем средств в сумме 719, 54 млн. рублей,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выделены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дополнительные средства в сумме 452 млн. рублей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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направлены дополнительные заявки на сумму 350 млн. рублей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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из республиканского бюджета выделено 60 млн. рублей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2400"/>
            </a:br>
            <a:r>
              <a:rPr b="1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На 17.10.07г.: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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олучено лекарств на сумму 812,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8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млн. рублей.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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Отпущено лекарств на сумму 773,5млн. рублей, в т.ч. за счет средств республиканского бюджета на сумму 35,6 млн. рублей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79280" y="277920"/>
            <a:ext cx="8785440" cy="624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остатки лекарственных средств по состоянию на 16.10.2007г. – 151,4 млн. руб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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среднемесячный отпуск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лекарственных средств – 81,5 млн. рублей</a:t>
            </a:r>
            <a:br>
              <a:rPr sz="3200"/>
            </a:br>
            <a:br>
              <a:rPr sz="3200"/>
            </a:b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Задача: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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ежедневное информационное взаимодействие Аптека - ЛП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353440" cy="648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Количество граждан, отказавшихся от государственной социальной помощи в виде набора социальных услуг, по состоянию на 01.10.2007г. составило 73,2% ( в части лекарственного обеспечения – 69,7%)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Wingdings 2"/>
                <a:ea typeface="Wingdings 2"/>
              </a:rPr>
              <a:t>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средний показатель по Приволжскому федеральному округу – 75%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Wingdings 2"/>
                <a:ea typeface="Wingdings 2"/>
              </a:rPr>
              <a:t>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наименьший показатель у Самарской области – 64%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Wingdings 2"/>
                <a:ea typeface="Wingdings 2"/>
              </a:rPr>
              <a:t>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наибольший - у республики Марий Эл – 82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58560" y="-316800"/>
            <a:ext cx="87850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0" y="189000"/>
            <a:ext cx="4495680" cy="45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Наименьший процент граждан, отказавшихся от государственной социальной помощи в виде набора социальных услуг по Республике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1. г.Набережные Челны  64,7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2. Ютазинский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        66,6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3. Азнакаевский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        70,2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4. Тукаевский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        70,4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5. Высокогорский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        72,1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16000" y="189000"/>
            <a:ext cx="4248360" cy="45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Наибольший процент граждан, отказавшихся от государственной социальной помощи в виде набора социальных услуг по Республике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1. Кукморский  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89,5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2. Балтасинский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89,1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3. Чистопольский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85,8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4. Черемшанский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85,3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5. Актанышский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85,1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9280" y="5589720"/>
            <a:ext cx="8964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50920" y="5415120"/>
            <a:ext cx="158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4797360"/>
            <a:ext cx="889308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Одна из причин отказа – трудность выписки льготных рецептов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Задача – принять меры для упрощения выписки льготных рецепт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79280" y="277920"/>
            <a:ext cx="8785440" cy="617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В настоящее время для работы  доведен  регистр граждан. </a:t>
            </a:r>
            <a:br>
              <a:rPr sz="2400"/>
            </a:br>
            <a:br>
              <a:rPr sz="2400"/>
            </a:br>
            <a:r>
              <a:rPr b="1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Задачи: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Wingdings 2"/>
                <a:ea typeface="Wingdings 2"/>
              </a:rPr>
              <a:t>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провести анализ по структуре заболеваемости с учетом бронхиальной астмы, психических заболеваний, эпилепсии, сахарного диабета, в т.ч. больных получающих инсулинотерапию, ревматоидного артрита, пациентов, находящихся  на программном гемодиализе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Wingdings 2"/>
                <a:ea typeface="Wingdings 2"/>
              </a:rPr>
              <a:t>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 сформировать с учетом рекомендаций главных специалистов на 1 квартал 2008 года уточненную  заявку, которая должна быть в рамках ранее представленной потребности.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50560" y="277560"/>
            <a:ext cx="8713800" cy="631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</a:t>
            </a:r>
            <a:br>
              <a:rPr sz="2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По данным Фонда ОМС РТ по итогам проведенной медико-экономической экспертизы отпущенных рецептов за 2006г.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отклонено от оплаты льготных рецептов на сумму 171,1  млн. рублей. </a:t>
            </a:r>
            <a:br>
              <a:rPr sz="3600"/>
            </a:br>
            <a:br>
              <a:rPr sz="28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50560" y="277560"/>
            <a:ext cx="8713800" cy="639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   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2007 год</a:t>
            </a:r>
            <a:br>
              <a:rPr sz="2400"/>
            </a:br>
            <a:br>
              <a:rPr sz="2400"/>
            </a:b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Нарушения: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выписка в количестве более 5 рецептов в день без ВК одному больному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выписка в количестве более 10 рецептов в месяц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назначение лекарственных средств в  момент нахождения больного на лечении в стационаре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выписка льготных рецептов врачами самим себе </a:t>
            </a:r>
            <a:br>
              <a:rPr sz="2400"/>
            </a:br>
            <a:br>
              <a:rPr sz="2400"/>
            </a:b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Задача: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проведение жесткого контроля обоснованности и рациональности назначения льготных лекарств.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68360" y="-69840"/>
            <a:ext cx="82296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60280"/>
            <a:ext cx="403848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Стабильно высокое количество рецептов, находящихся на гарантированном обеспечении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о Республике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Азнакаевсий 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Альметьевский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Верхнеуслонский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Зеленодольский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Лениногорский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Мамадышский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Нурлатский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естречинский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Чистопольск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48320" y="189000"/>
            <a:ext cx="403848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Стабильно низкое количество рецептов, находящихся на гарантированном обеспечении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о Республике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Бугульминский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Тукаевский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Апастовский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Актанышский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Камско-Устьинск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Дрожжановский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Муслюмовский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Новошешминский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Тюлячинский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Тетюшск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79280" y="277560"/>
            <a:ext cx="8785440" cy="639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ru-RU" sz="1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ru-RU" sz="1800" spc="-1" strike="noStrike" u="sng">
                <a:solidFill>
                  <a:srgbClr val="ffffff"/>
                </a:solidFill>
                <a:uFillTx/>
                <a:latin typeface="Times New Roman"/>
              </a:rPr>
              <a:t>Перспективы программы ДЛО 2008 года:</a:t>
            </a:r>
            <a:br>
              <a:rPr sz="1800"/>
            </a:br>
            <a:r>
              <a:rPr b="1" lang="ru-RU" sz="18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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7  финансово-затратных заболеваний выделяются  в отдельную федеральную целевую программу (гемофилия, муковисцидоз, рассеянный склероз, болезнь Гоше, гипофизарный нанизм, миелолейкоз и состояние после трансплантации органов и тканей)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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 распоряжением Правительства РФ от 02.10.2007г. №1328-р утвержден Перечень централизованно закупаемых лекарственных средств по указанным заболеваниям (18 наименований)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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 полномочия по обеспечению федеральных льготников лекарственными средствами, включая их закупки, передаются субъектам Российской Федерации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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 увеличение норматива  финансирования на одного льготника с 378,75 рублей в 2007г. до 417 рублей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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 предполагаемый объем финансирования - 570 млн. рублей в год</a:t>
            </a:r>
            <a:br>
              <a:rPr sz="1800"/>
            </a:br>
            <a:br>
              <a:rPr sz="1800"/>
            </a:br>
            <a:r>
              <a:rPr b="1" lang="ru-RU" sz="1800" spc="-1" strike="noStrike" u="sng">
                <a:solidFill>
                  <a:srgbClr val="ffffff"/>
                </a:solidFill>
                <a:uFillTx/>
                <a:latin typeface="Times New Roman"/>
              </a:rPr>
              <a:t>Перспективы работы в «региональной льготе»: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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 введение контроля за использованием бюджетных средств республики для региональных льготников, введение экспертизы счетов-реестров на отпущенные лекарства региональным льготникам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7T07:14:37Z</dcterms:created>
  <dc:creator>User</dc:creator>
  <dc:description/>
  <dc:language>en-US</dc:language>
  <cp:lastModifiedBy>User</cp:lastModifiedBy>
  <dcterms:modified xsi:type="dcterms:W3CDTF">2007-10-17T14:41:07Z</dcterms:modified>
  <cp:revision>52</cp:revision>
  <dc:subject/>
  <dc:title>Слайд 1</dc:title>
</cp:coreProperties>
</file>