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893-BD22-487B-98CD-E9E2FA36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76A-4D33-4C1C-AEAA-F4217672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246-3D9E-45C7-BA05-B29EC3D4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DD6-740B-49D7-B618-BFA35FBB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47A-2905-4295-BBD4-6E6B8D55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4B6-DDD0-48C9-83AE-8470443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E3B-9ECA-43EE-8382-12835912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703-EF6C-495F-8570-FA7D30E0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AB4-B4D1-4EE3-9D60-9D73CBEF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33C-50B4-48FA-AC36-9D6B9F9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182-9A86-45E2-ADE9-6C93C84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53E-F83E-4A1F-94A6-B8D3A1DB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1815-3DA6-49C7-BED5-D7C98AC11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8560" y="977760"/>
            <a:ext cx="7602480" cy="4977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981000"/>
            <a:ext cx="7589880" cy="4970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3068640"/>
            <a:ext cx="8964720" cy="947160"/>
          </a:xfrm>
          <a:prstGeom prst="rect">
            <a:avLst/>
          </a:prstGeom>
          <a:solidFill>
            <a:srgbClr val="f3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остояние реализации приоритет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ационального проекта «Здоровье» в 200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5222880"/>
            <a:ext cx="6121440" cy="1145880"/>
          </a:xfrm>
          <a:prstGeom prst="rect">
            <a:avLst/>
          </a:prstGeom>
          <a:solidFill>
            <a:srgbClr val="f3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Доклад начальника Управления качества медицинской помощи Министерства здравоохранения Республики Татарстан Р.Ф. Батыршина на дне главного врач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т 17.10.2007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4280"/>
            <a:ext cx="9144000" cy="64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33cc"/>
                </a:solidFill>
                <a:latin typeface="Times New Roman"/>
              </a:rPr>
              <a:t>Охват иммунизацией населения за 2006 - 9 месяцев 2007 г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661000"/>
            <a:ext cx="914400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олучены вакцины против гепатита В, краснухи, полиомиелита и гриппа на сумму  более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82 млн. рублей </a:t>
            </a:r>
            <a:r>
              <a:rPr b="1" lang="en-US" sz="2600" spc="-1" strike="noStrike">
                <a:solidFill>
                  <a:srgbClr val="0066ff"/>
                </a:solidFill>
                <a:latin typeface="Times New Roman"/>
              </a:rPr>
              <a:t>(70% от план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8920" y="838080"/>
          <a:ext cx="8826480" cy="3810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838080"/>
                    <a:ext cx="8826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4920" y="4602240"/>
            <a:ext cx="914400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 2006 году получены вакцины против гепатита В, краснухи, полиомиелита и гриппа на сумму  почти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98 млн. рубл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4280"/>
            <a:ext cx="9144000" cy="865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Профилактика, выявление и лечение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больных ВИЧ-инфекцией, гепатитами В 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2133720"/>
            <a:ext cx="896472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Получены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антиретровирусные препараты, препараты для лечения гепатитов и тест-системы на сумму более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178 млн.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рублей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66ff"/>
                </a:solidFill>
                <a:latin typeface="Times New Roman"/>
              </a:rPr>
              <a:t>(293% от прогноза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за счет сверхпланового их получения из федерального резерва в начале 2007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Проведено более 823 тысяч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обследований на ВИЧ-инфекцию и гепатиты В и 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Взято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на антиретровирусную терапию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162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больных </a:t>
            </a:r>
            <a:r>
              <a:rPr b="1" lang="ru-RU" sz="2700" spc="-1" strike="noStrike">
                <a:solidFill>
                  <a:srgbClr val="0066ff"/>
                </a:solidFill>
                <a:latin typeface="Times New Roman"/>
              </a:rPr>
              <a:t>(83% от плана),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а лечение гепатитов В и С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0" y="1052640"/>
            <a:ext cx="9144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2006 год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луче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ест системы и антиретровирусные препараты на сумму  почт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1 млн. руб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44280"/>
            <a:ext cx="9107640" cy="576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одовые сертифи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2057400"/>
            <a:ext cx="896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женских консультациях выдано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8  58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роддомах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 88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овых сертифик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чено для оплаты медицинской помощи, оказанной женщинам в период беременности, родов и послеродовом периоде более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59 млн.  рублей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(71% от прогно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ля оплаты медицинской помощи, оказанной детям в возрасте до года з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алоны №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детские поликлиники перечислено боле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 млн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8618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2006 году за более чем 40 тысяч родовых сертификатов получено почти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6 млн. руб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455616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280" y="760320"/>
            <a:ext cx="896472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нансирование неонатального скрининга составило боле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8 млн. рубл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(85% от пл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следованы на галактоземию, муковисцидоз и адреногенитальный синдром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2 тысяч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оворожденных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(170% от объема 2006 года или 80% от прогноза 2007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влен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крининг - положительный детей,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дтвержден диагноз – муковисцидоз, 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адреногенитальный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спублике Татарстан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делена медико-генетическая лаборатор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я проведения неонатального скрининг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280"/>
            <a:ext cx="9144000" cy="5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онатальный скринин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8000" y="1459080"/>
            <a:ext cx="889164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Впервые в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006 году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санаторно-курортное лечение и оздоровление получили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 703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беременных женщин групп риска на сумму свыше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7 млн. руб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9 месяцев 2007 года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в условиях санаториев и курортов получили лечение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 81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беременных женщин групп риска на сумму более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3 млн. рублей 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(118% от прогноз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280"/>
            <a:ext cx="9144000" cy="865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Санаторно-курортное лечение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и оздоровление беременных женщин групп ри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07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ложительные тенденц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овышения качества деятельности службы охраны материнства и детства в 2006 году продолжились по итогам 9 месяцев 200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 сравнению с 9 месяцами 2006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одилос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 027 дете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больше (29 66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низилас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аденческая смертность 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,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на 1 тысячу детей, родившихся живы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низилас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теринская смертность 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5,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,8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на 100 тысяч детей живорожд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2840"/>
            <a:ext cx="9144000" cy="86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зультаты реализации родовых сертификатов, неонатального скрининга, оздоровления беременных женщин групп р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8440" y="2679840"/>
          <a:ext cx="4038840" cy="26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40" y="2679840"/>
                    <a:ext cx="403884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rot="16200000">
            <a:off x="2324880" y="3807360"/>
            <a:ext cx="1692360" cy="360360"/>
          </a:xfrm>
          <a:custGeom>
            <a:avLst/>
            <a:gdLst>
              <a:gd name="textAreaLeft" fmla="*/ 264240 w 1692360"/>
              <a:gd name="textAreaRight" fmla="*/ 1481040 w 169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54560" y="447840"/>
          <a:ext cx="4029120" cy="269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4560" y="447840"/>
                    <a:ext cx="402912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rot="5400000">
            <a:off x="6650280" y="1772280"/>
            <a:ext cx="1511280" cy="36036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356000" y="3519360"/>
          <a:ext cx="4064040" cy="271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56000" y="3519360"/>
                    <a:ext cx="406404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rot="5400000">
            <a:off x="7018920" y="5157000"/>
            <a:ext cx="936360" cy="360360"/>
          </a:xfrm>
          <a:custGeom>
            <a:avLst/>
            <a:gdLst>
              <a:gd name="textAreaLeft" fmla="*/ 146160 w 936360"/>
              <a:gd name="textAreaRight" fmla="*/ 819360 w 93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" y="907920"/>
            <a:ext cx="378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о итогам 9 месяце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006 и  2007 год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349360"/>
            <a:ext cx="378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исло родивших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280"/>
            <a:ext cx="9144000" cy="64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Оказание высокотехнологичн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2920" y="1197000"/>
            <a:ext cx="8893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006 го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в федеральные центры для оказания высокотехнологичной медицинской помощи было направлено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45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жителей республики, или на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3%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больше, чем в 2005 году с ориентировочной суммой их обследования и лечения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64 млн. руб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9 месяцев 2007 год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в федеральных центрах обследовано и пролечено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 257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ациентов из Татарстана на ориентировочную сумму более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33 млн.  рубле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(99% от прогноз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1280" y="981000"/>
            <a:ext cx="896472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Все четыре медицинских учреждения Татарстан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Республиканская клиническая больница, Детская республиканская клиническая больница, Межрегиональный клинико-диагностический центр, ГУ «НИЦТ «Восстановительная травматология и ортопедия»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успешно прошли конкур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и составили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8%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от числа учреждений получивших государственное задание на ВТМП по России и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9%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– по Приволжскому федеральному округ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олучено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54,68 млн. рубле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66ff"/>
                </a:solidFill>
                <a:latin typeface="Times New Roman"/>
              </a:rPr>
              <a:t>(100%)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получили ВТМП –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75 пациенто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66ff"/>
                </a:solidFill>
                <a:latin typeface="Times New Roman"/>
              </a:rPr>
              <a:t>(30%)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в том числе из Республики Чувашия –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4 больных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66ff"/>
                </a:solidFill>
                <a:latin typeface="Times New Roman"/>
              </a:rPr>
              <a:t>(9% от плана)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Республика Марий-Эл –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 больных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66ff"/>
                </a:solidFill>
                <a:latin typeface="Times New Roman"/>
              </a:rPr>
              <a:t>(11% от план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280"/>
            <a:ext cx="9144000" cy="792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Государственное задание на оказание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высокотехнологичн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003640" y="1484280"/>
            <a:ext cx="30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1628640"/>
            <a:ext cx="230508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1628640"/>
            <a:ext cx="223200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7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924280"/>
            <a:ext cx="36734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Ф – 1,7 млрд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076640"/>
            <a:ext cx="367200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РТ – 1,2 млрд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2924280"/>
            <a:ext cx="3673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Ф – 2,5 млрд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4076640"/>
            <a:ext cx="381636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РТ – 1,03 млрд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Факт на 01.10.2007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5920"/>
            <a:ext cx="9144000" cy="863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ff"/>
                </a:solidFill>
                <a:latin typeface="Times New Roman"/>
              </a:rPr>
              <a:t>Объемы федерального и республиканского финансирования проекта «Здоровье» за 2006 - 2007 го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4724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133720"/>
            <a:ext cx="62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4219560"/>
            <a:ext cx="8858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рогнозное федеральное финанс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роекта «Здоровье»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на 2007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год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оставля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более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,5 млрд. рублей,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что н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85 млн. руб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или н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1%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больше уровня 2006 г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463680"/>
            <a:ext cx="8964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За 2006 год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о проекту «Здоровье» республика получила из федерального бюджета субвенций, медицинских услуг, диагностического оборудования, санитарных машин, лекарственных и иммунобиологических препаратов, тест-систем, расходных материалов на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 млрд. 723 млн. руб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4724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62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04640"/>
            <a:ext cx="91440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2007  году</a:t>
            </a:r>
            <a:r>
              <a:rPr b="1" lang="en-US" sz="3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о проекту «Здоровье» республика получила из федерального бюджета субвенций, субсидий, диагностического оборудования, санитарного транспорта, медицинских услуг,  лекарственных и иммунобиологических препаратов, тест-систем, расходных материалов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на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1 млрд. 698 млн. руб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ff"/>
                </a:solidFill>
                <a:latin typeface="Times New Roman"/>
              </a:rPr>
              <a:t>(68% от прогноза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661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2133720"/>
            <a:ext cx="62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Подготовка и переподготовка врачей общей</a:t>
            </a:r>
            <a:br>
              <a:rPr sz="2600"/>
            </a:b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(семейной) практики, участковых терапевтов и педиат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0" y="1230480"/>
            <a:ext cx="90360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 государственному заданию в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2006 году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подготовлено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172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врача первичного звена здравоохран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700" spc="-1" strike="noStrike">
                <a:solidFill>
                  <a:srgbClr val="ff3300"/>
                </a:solidFill>
                <a:latin typeface="Times New Roman"/>
              </a:rPr>
              <a:t>2007 год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государственное задание составляет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668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врачей первичного звена на повышение квалификации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(4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– КГМА и 120 – КГМУ</a:t>
            </a:r>
            <a:r>
              <a:rPr b="1" lang="ru-RU" sz="2700" spc="-1" strike="noStrike">
                <a:solidFill>
                  <a:srgbClr val="ff3300"/>
                </a:solidFill>
                <a:latin typeface="Times New Roman"/>
              </a:rPr>
              <a:t>),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в том числе</a:t>
            </a:r>
            <a:r>
              <a:rPr b="1" lang="ru-RU" sz="2700" spc="-1" strike="noStrike">
                <a:solidFill>
                  <a:srgbClr val="ff3300"/>
                </a:solidFill>
                <a:latin typeface="Times New Roman"/>
              </a:rPr>
              <a:t> 124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врача на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ервичную специализацию по общей (семейной) практике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(100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– КГМА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–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ff3300"/>
                </a:solidFill>
                <a:latin typeface="Times New Roman"/>
              </a:rPr>
              <a:t>КГМУ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ошли дополнительную профессиональную подготовку и первичную специализацию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519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врачей </a:t>
            </a:r>
            <a:r>
              <a:rPr b="1" lang="ru-RU" sz="2700" spc="-1" strike="noStrike">
                <a:solidFill>
                  <a:srgbClr val="0066ff"/>
                </a:solidFill>
                <a:latin typeface="Times New Roman"/>
              </a:rPr>
              <a:t>(78% от плана):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240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врачей – по терапии и педиатрии,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279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врача –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 общей (семейной) практик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407960"/>
            <a:ext cx="8964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сентябрь месяц 2007 год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в республиканский регистр включено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 430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специалистов первичного звен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дравоохранения, что на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978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человек больше, чем с начала реализации проекта «Здоровь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За 9 месяцев 2007 год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на выплаты специалистам первичного звена получено более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1 млн. рублей 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(67% от прогноз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4280"/>
            <a:ext cx="9144000" cy="792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Денежные выплаты специалистам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первичного звена здравоохра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9036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Оснащение диагностическим оборуд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39960"/>
            <a:ext cx="914400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6 год (261 единица)                         2007 год (169 едини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10        лабораторные комплекты             2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2                    колоноскопы                         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8                    маммографы                          1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0              фетальные мониторы                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0                      гистероскопы                       1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34                фиброгастроскопы                   3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20                  рентгенаппараты                    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21                    флюорографы                        1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76                   УЗИ - аппараты                      3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90                   ЭКГ - аппараты                     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2920" y="5373720"/>
            <a:ext cx="889308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а 2007 год на 169 единиц диагностического оборудования выделено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222 млн. рубле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(на 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19 млн. рубле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или на 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9,3%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больше, чем в 2006 году)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280"/>
            <a:ext cx="9144000" cy="576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Оснащение диагностическим оборудова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55640" y="1557000"/>
            <a:ext cx="0" cy="1584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17080" y="3357720"/>
            <a:ext cx="0" cy="15840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549360"/>
          <a:ext cx="8229600" cy="568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49360"/>
                    <a:ext cx="82296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4280"/>
            <a:ext cx="9144000" cy="64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снащение диагностическим оборуд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907920"/>
            <a:ext cx="89647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упил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32 единиц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(78% от плана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11 млн. рубл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(9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о в эксплуатацию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23 аппара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(9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-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их учреждениях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онтаж завершае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больница №18 г. Казани и в поликлиника №6 г. Н.Челны, больница №2 г. Нижнекамск, Альметьевская Ц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 введе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ксплуатацию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5 едини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(3%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ледующим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их учреждени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жидают бригады монтажник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больница №5 г. Н.Челны, больница №1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Казани и поликлиника №3 г. Альметьев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-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едицинских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иклиники №8 и №1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Казани) установлен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водские дефек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ентгеновского аппарата и цифрового флюорог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080" y="836640"/>
            <a:ext cx="3058920" cy="2055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8000" y="3068640"/>
            <a:ext cx="88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На 2007 год выделена квота на получение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0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единиц санитарного автотранспорта в сумме 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56 млн. рубле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(на</a:t>
            </a:r>
            <a:br>
              <a:rPr sz="2500"/>
            </a:b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4 млн. рубле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или на 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7,6%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больше, чем в 2006 году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Оснащение санитарными автомобил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9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упило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единиц санитарного автотранспорта  на сумму более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5 млн. рубле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(46% от пл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1052640"/>
            <a:ext cx="5616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 2006 году по проекту «Здоровье» получено </a:t>
            </a:r>
            <a:r>
              <a:rPr b="1" lang="ru-RU" sz="2500" spc="-1" strike="noStrike">
                <a:solidFill>
                  <a:srgbClr val="ff3300"/>
                </a:solidFill>
                <a:latin typeface="Times New Roman"/>
              </a:rPr>
              <a:t>89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санитарных автомобилей и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реанимобиль на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52 млн. рублей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43280" y="1484280"/>
            <a:ext cx="43927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информации Управления бухгалтерского учета и отчетности Минздрава Республики Татарстан постановка на учет санитарного транспорта, поступаемого по проекту «Здоровье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существляется в муниципальных образованиях в нормативные сро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Напомин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целев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спользовании санитарного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 исключение случаев его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азукомплектования и перевода в резер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4280"/>
            <a:ext cx="9144000" cy="863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Соблюдение нормативных сроков регистрации санитарного транспорта в органах ГИБДД Министерства внутренних дел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8655" t="3742" r="4879" b="9343"/>
          <a:stretch/>
        </p:blipFill>
        <p:spPr>
          <a:xfrm>
            <a:off x="34920" y="981000"/>
            <a:ext cx="4537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1:59:09Z</dcterms:created>
  <dc:creator>bulgakov</dc:creator>
  <dc:description/>
  <dc:language>en-US</dc:language>
  <cp:lastModifiedBy>Batirshin</cp:lastModifiedBy>
  <dcterms:modified xsi:type="dcterms:W3CDTF">2007-10-23T08:10:40Z</dcterms:modified>
  <cp:revision>263</cp:revision>
  <dc:subject/>
  <dc:title>Слайд 1</dc:title>
</cp:coreProperties>
</file>