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55E-F39E-4EF2-B704-79428F2D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604-AA63-42D5-B099-0AC1A212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975F-2282-4B53-AA45-359BD65F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6C08-FF3D-4429-A804-B24DB6BF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CECA-2CB2-448B-BD49-DC36977D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28F7-3E6E-40A7-A861-D3A84106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2D02-EA62-4108-B867-351AAB0F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780E-DC51-41FF-A751-84956C7F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B467-AE40-43C6-8020-37D09930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1190-38FC-405B-A859-5D0E9C50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462D-3A0F-4DAE-94B8-88210A3F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3C1-CD18-4DE8-BD63-2BCB4202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8AB3-6C4C-4E27-AA69-00659AB9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F8D2-A1B0-45EB-BC84-733EFDC3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2342-E7E4-4973-A37C-F8C6E9EA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FC0A-1FE1-4340-99FB-B77669F7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D5F7-277C-4868-9B85-72B36B59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9A3-8980-4824-A021-1BA3D389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38E-27A5-474E-A37C-A4C248D5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69D-F4F5-4BFC-B3B5-EA75404C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E4A3-254C-44AA-A3F3-93BADFFE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676-1073-4C70-9766-0B177D59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DA6-3B28-4CE6-AA39-34A8EFEA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578-6A34-48C1-97FB-6B181F01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21D1-BFEC-47EE-8D1C-52FC5FBF8F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C64F-61C9-42A0-BF8B-26FAEB5647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Подтвержденные факты </a:t>
            </a:r>
            <a:br>
              <a:rPr sz="3200"/>
            </a:b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фальсификации :</a:t>
            </a:r>
            <a:endParaRPr b="1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02680" cy="1944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ff99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ff99"/>
                </a:solidFill>
                <a:latin typeface="Arial"/>
              </a:rPr>
              <a:t>2006 </a:t>
            </a:r>
            <a:r>
              <a:rPr b="1" lang="ru-RU" sz="2800" spc="-1" strike="noStrike">
                <a:solidFill>
                  <a:srgbClr val="ccff99"/>
                </a:solidFill>
                <a:latin typeface="Arial"/>
              </a:rPr>
              <a:t>год :</a:t>
            </a:r>
            <a:r>
              <a:rPr b="1" lang="ru-RU" sz="2800" spc="-1" strike="noStrike">
                <a:solidFill>
                  <a:srgbClr val="a2dc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Ципролет табле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рихопол табле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Arial"/>
              </a:rPr>
              <a:t>200</a:t>
            </a:r>
            <a:r>
              <a:rPr b="1" lang="ru-RU" sz="2800" spc="-1" strike="noStrike">
                <a:solidFill>
                  <a:srgbClr val="ccff99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ccff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ff99"/>
                </a:solidFill>
                <a:latin typeface="Arial"/>
              </a:rPr>
              <a:t>год :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Химотрипсин, лиофилиз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о-шпа раствор для инъек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5373720"/>
            <a:ext cx="7978680" cy="11523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006 год – 21 наименование (27 сери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2007 год – 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наименований (54 сери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3933720"/>
            <a:ext cx="8385120" cy="102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Забраковано в ходе мониторинга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24A-B3C8-4A0A-9B10-82E6F3B8D5B9}" type="slidenum">
              <a:t>1</a:t>
            </a:fld>
          </a:p>
        </p:txBody>
      </p:sp>
    </p:spTree>
  </p:cSld>
  <p:transition spd="med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244080"/>
            <a:ext cx="8447040" cy="10969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Динамика    выявления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 Black"/>
              </a:rPr>
              <a:t>фальсифицированных   лекарственных средств   по   отличительным   признакам</a:t>
            </a:r>
            <a:endParaRPr b="1" lang="en-US" sz="2400" spc="-1" strike="noStrike">
              <a:solidFill>
                <a:srgbClr val="cc6600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-252360" y="1297080"/>
          <a:ext cx="9396360" cy="55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1297080"/>
                    <a:ext cx="939636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C9A-417D-4BEB-8963-5406C97B4BF6}" type="slidenum">
              <a:t>2</a:t>
            </a:fld>
          </a:p>
        </p:txBody>
      </p:sp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0:00:41Z</dcterms:created>
  <dc:creator>Oleg</dc:creator>
  <dc:description/>
  <dc:language>en-US</dc:language>
  <cp:lastModifiedBy>Elena</cp:lastModifiedBy>
  <dcterms:modified xsi:type="dcterms:W3CDTF">2007-11-22T13:43:40Z</dcterms:modified>
  <cp:revision>121</cp:revision>
  <dc:subject/>
  <dc:title>Государственное учреждение «Центр контроля качества и сертификации лекарственных средств Республики Татарстан»</dc:title>
</cp:coreProperties>
</file>